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1CE-8B02-43CB-98C1-394ABC4C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505-7740-4E44-AA45-A3021632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551-9398-45E1-84BE-FCBC5E35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1FF-4B6A-44F7-BFE5-5988388A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574-55A6-4D0F-B14B-8E914D05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1585-BEC3-4F0F-A150-4E64E21D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EFF-073B-407E-B70B-247B78F7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4015-3A7E-40B1-ADE8-711201AF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A10-4E7A-4DCD-A990-2BD41E36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9DB-CDD1-4993-A303-53B648FE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137-1792-4D64-BD46-8AD80DCF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DFD-FC84-4B80-A051-4DB58BDE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D43A-0493-4B24-9177-AD9126710B41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it/thumb/3/34/Frege.jpg/220px-Frege.jpg&amp;imgrefurl=http://it.wikipedia.org/wiki/Gottlob_Frege&amp;h=315&amp;w=220&amp;sz=12&amp;hl=ro&amp;start=1&amp;tbnid=H-0f4cEB9Ak2BM:&amp;tbnh=117&amp;tbnw=82&amp;prev=/images%3Fq%3DGottlob%2BFrege%26svnum%3D10%26hl%3Dro%26lr%3D%26rls%3DSUNA,SUNA:2006-36,SUNA: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LOGICA P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CATIV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Ă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Sistem formal.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achines are fast, humans are sm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”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Wo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w Wilso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Bledso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21-1995, matematician america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CA COMPUTA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ONAL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INFORMATICĂ a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rs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rmen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ă sau variabil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             sunt termeni şi      e funcţie, atun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te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asta este singura metodă de generare a termeni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ermenii sunt obiectele cărora li se aplică funcţi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om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      este predicat şi             sunt terme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Atomii au rolul propoziţiilor simple din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438280" y="243828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410080" y="236232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00200" y="2819520"/>
                <a:ext cx="1542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990720" y="4419720"/>
                <a:ext cx="16761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413000" y="4876920"/>
                <a:ext cx="492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457880" y="4933800"/>
                <a:ext cx="11048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</a:t>
            </a: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rmen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ă sau variabil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             sunt termeni şi      e funcţie, atun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te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asta este singura metodă de generare a termeni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enii sunt obiectele cărora li se aplică funcţi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om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      este predicat şi             sunt terme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tomii au rolul propoziţiilor simple din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438280" y="243828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410080" y="236232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600200" y="2819520"/>
                <a:ext cx="1542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990720" y="4419720"/>
                <a:ext cx="16761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13000" y="4876920"/>
                <a:ext cx="492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457880" y="4933800"/>
                <a:ext cx="11048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</a:t>
            </a: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edicat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e o 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une abstr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os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ntru a descrie le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ile (re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le) dintre obiectele (termenii) real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 predicat nu are argumente, atunci el se numes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n punct de vedere al interpr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i (al valorii de ade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) predicatele sunt cele care se evaluea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ele compuse sunt construite cu ajutorul predicatelor (formulelor atomic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 altor elemente de vocabular: conectori logic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uantificat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</a:t>
            </a: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EMP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 med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r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 o persoa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el este compe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boala de care ea sufera, atunci persoana se va vindeca“ se poate descrie cu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990720" y="3429000"/>
                <a:ext cx="76294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rsoan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boala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medic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competen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ingriji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vindeca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EMPLU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Domeni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 cele 5 cub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Relaţi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aritate 1: clear(a), clear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aritate 2: on(b,a), on(d,b), on(e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rivate: above(d,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aritate 3: stack(a,b,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Funcţi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relaţii speciale): color(c)=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132000" y="4192560"/>
            <a:ext cx="6012000" cy="2665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400800" y="6019920"/>
            <a:ext cx="2286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4419720"/>
            <a:ext cx="914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    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4952880"/>
            <a:ext cx="4343400" cy="1371600"/>
          </a:xfrm>
          <a:prstGeom prst="rect">
            <a:avLst/>
          </a:prstGeom>
          <a:solidFill>
            <a:srgbClr val="ffe4c9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ulţimea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formulelor bine-form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fbf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tomii sunt f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dacă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unt fbf, atunci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           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cu     variabilă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unt f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ceasta este singura metodă prin care se generează fb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Se pot defini celelalte simbol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    x</a:t>
            </a:r>
            <a:r>
              <a:rPr b="0" lang="ro-RO" sz="2000" spc="-1" strike="noStrike" baseline="-25000">
                <a:solidFill>
                  <a:srgbClr val="dddddd"/>
                </a:solidFill>
                <a:latin typeface="Arial"/>
              </a:rPr>
              <a:t>i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) </a:t>
            </a:r>
            <a:r>
              <a:rPr b="1" lang="ro-RO" sz="2400" spc="-1" strike="noStrike">
                <a:solidFill>
                  <a:srgbClr val="dddddd"/>
                </a:solidFill>
                <a:latin typeface="Monotype Corsiva"/>
              </a:rPr>
              <a:t>A </a:t>
            </a:r>
            <a:r>
              <a:rPr b="1" lang="ro-RO" sz="2000" spc="-1" strike="noStrike">
                <a:solidFill>
                  <a:srgbClr val="dddddd"/>
                </a:solidFill>
                <a:latin typeface="Monotype Corsiva"/>
              </a:rPr>
              <a:t>     </a:t>
            </a:r>
            <a:r>
              <a:rPr b="1" lang="ro-RO" sz="2000" spc="-1" strike="noStrike">
                <a:solidFill>
                  <a:srgbClr val="dddddd"/>
                </a:solidFill>
                <a:latin typeface="Monotype Corsiva"/>
              </a:rPr>
              <a:t>	</a:t>
            </a:r>
            <a:r>
              <a:rPr b="0" lang="ro-RO" sz="2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dddddd"/>
                </a:solidFill>
                <a:latin typeface="Times New Roman"/>
              </a:rPr>
              <a:t>((     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x</a:t>
            </a:r>
            <a:r>
              <a:rPr b="0" lang="ro-RO" sz="2000" spc="-1" strike="noStrike" baseline="-25000">
                <a:solidFill>
                  <a:srgbClr val="dddddd"/>
                </a:solidFill>
                <a:latin typeface="Arial"/>
              </a:rPr>
              <a:t>i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1" lang="ro-RO" sz="2400" spc="-1" strike="noStrike">
                <a:solidFill>
                  <a:srgbClr val="dddddd"/>
                </a:solidFill>
                <a:latin typeface="Monotype Corsiva"/>
              </a:rPr>
              <a:t>A</a:t>
            </a:r>
            <a:r>
              <a:rPr b="1" lang="ro-RO" sz="2000" spc="-1" strike="noStrike">
                <a:solidFill>
                  <a:srgbClr val="dddddd"/>
                </a:solidFill>
                <a:latin typeface="Monotype Corsiva"/>
              </a:rPr>
              <a:t> </a:t>
            </a:r>
            <a:r>
              <a:rPr b="0" lang="ro-RO" sz="2000" spc="-1" strike="noStrike">
                <a:solidFill>
                  <a:srgbClr val="dddddd"/>
                </a:solidFill>
                <a:latin typeface="Times New Roman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1" lang="ro-RO" sz="2400" spc="-1" strike="noStrike">
                <a:solidFill>
                  <a:srgbClr val="dddddd"/>
                </a:solidFill>
                <a:latin typeface="Monotype Corsiva"/>
              </a:rPr>
              <a:t>A</a:t>
            </a:r>
            <a:r>
              <a:rPr b="0" lang="el-GR" sz="20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dddddd"/>
                </a:solidFill>
                <a:latin typeface="Monotype Corsiva"/>
                <a:ea typeface="Arial"/>
              </a:rPr>
              <a:t>B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)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1" lang="ro-RO" sz="2400" spc="-1" strike="noStrike">
                <a:solidFill>
                  <a:srgbClr val="dddddd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dddddd"/>
                </a:solidFill>
                <a:latin typeface="Monotype Corsiva"/>
                <a:ea typeface="Arial"/>
              </a:rPr>
              <a:t>→</a:t>
            </a:r>
            <a:r>
              <a:rPr b="0" lang="ro-RO" sz="2000" spc="-1" strike="noStrike">
                <a:solidFill>
                  <a:srgbClr val="dddddd"/>
                </a:solidFill>
                <a:latin typeface="Times New Roman"/>
                <a:ea typeface="Arial"/>
              </a:rPr>
              <a:t>(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dddddd"/>
                </a:solidFill>
                <a:latin typeface="Monotype Corsiva"/>
                <a:ea typeface="Arial"/>
              </a:rPr>
              <a:t> </a:t>
            </a:r>
            <a:r>
              <a:rPr b="1" lang="en-US" sz="2400" spc="-1" strike="noStrike">
                <a:solidFill>
                  <a:srgbClr val="dddddd"/>
                </a:solidFill>
                <a:latin typeface="Monotype Corsiva"/>
                <a:ea typeface="Arial"/>
              </a:rPr>
              <a:t>B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1" lang="ro-RO" sz="2400" spc="-1" strike="noStrike">
                <a:solidFill>
                  <a:srgbClr val="dddddd"/>
                </a:solidFill>
                <a:latin typeface="Monotype Corsiva"/>
              </a:rPr>
              <a:t>A</a:t>
            </a:r>
            <a:r>
              <a:rPr b="0" lang="ro-RO" sz="18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dddddd"/>
                </a:solidFill>
                <a:latin typeface="Monotype Corsiva"/>
                <a:ea typeface="Arial"/>
              </a:rPr>
              <a:t>B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)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1" lang="ro-RO" sz="2400" spc="-1" strike="noStrike">
                <a:solidFill>
                  <a:srgbClr val="dddddd"/>
                </a:solidFill>
                <a:latin typeface="Monotype Corsiva"/>
              </a:rPr>
              <a:t>A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dddddd"/>
                </a:solidFill>
                <a:latin typeface="Monotype Corsiva"/>
                <a:ea typeface="Arial"/>
              </a:rPr>
              <a:t>→</a:t>
            </a:r>
            <a:r>
              <a:rPr b="1" lang="en-US" sz="2400" spc="-1" strike="noStrike">
                <a:solidFill>
                  <a:srgbClr val="dddddd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352680" y="2895480"/>
                <a:ext cx="7621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724280" y="2871720"/>
                <a:ext cx="352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23880" y="5029200"/>
                <a:ext cx="249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5029200"/>
                <a:ext cx="2919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819520" y="5029200"/>
            <a:ext cx="0" cy="13716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</a:t>
            </a: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4952880"/>
            <a:ext cx="434340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ulţimea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formulelor bine-form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fbf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tomii sunt f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dacă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unt fbf, atunci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)           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cu      variabilă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sunt fb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aceasta este singura metodă prin care se generează fb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Se pot defini celelalte simbol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    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1" lang="ro-RO" sz="20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o-RO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((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48120" y="2895480"/>
                <a:ext cx="7617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371840" y="2895480"/>
                <a:ext cx="352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523880" y="5029200"/>
                <a:ext cx="2494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886200" y="5029200"/>
                <a:ext cx="2919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2819520" y="495288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</a:t>
            </a: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iv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 cuantificatorilor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(   x)P(x)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(   x)~P(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(   x)P(x)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(   x)~P(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~(   x)P(x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x)~P(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~(  x)P(x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x)~P(x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371600" y="25146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648240" y="251460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600200" y="38098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447920" y="297180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429000" y="342900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581280" y="28954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00200" y="3352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352680" y="38098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În               spunem că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omeniu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cuantificatorului    . Dacă               apare în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spunem că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omeniu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acelui cuantificato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ariabila x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legat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e apli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  cuantifi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 Altfel variabila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liber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ambele le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                                                     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x</a:t>
            </a:r>
            <a:r>
              <a:rPr b="0" lang="ro-RO" sz="2800" spc="-1" strike="noStrike" baseline="-25000">
                <a:solidFill>
                  <a:srgbClr val="dddddd"/>
                </a:solidFill>
                <a:latin typeface="Arial"/>
              </a:rPr>
              <a:t>2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 liberă şi legat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429000" y="2133720"/>
                <a:ext cx="4129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990720" y="1600200"/>
                <a:ext cx="13716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952880" y="2057400"/>
                <a:ext cx="1314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838080" y="4648320"/>
                <a:ext cx="4311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914400" y="5645160"/>
                <a:ext cx="4311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895480" y="3581280"/>
                <a:ext cx="984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</a:t>
            </a: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În               spunem că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omeniu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cuantificatorului    . Dacă               apare în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spunem că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omeniu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acelui cuantificato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ariabila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o-RO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legat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e apli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 cuantific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 Altfel variabila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liber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ambele le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                                                    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x</a:t>
            </a:r>
            <a:r>
              <a:rPr b="0" lang="ro-RO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 liberă şi legat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429000" y="2133720"/>
                <a:ext cx="4129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990720" y="1600200"/>
                <a:ext cx="13716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952880" y="2057400"/>
                <a:ext cx="1314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838080" y="4648320"/>
                <a:ext cx="4311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14400" y="5645160"/>
                <a:ext cx="4311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895480" y="3581280"/>
                <a:ext cx="984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i logica propoziţională are aplicaţii diverse, puterea de formalizare este scăzut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ropoziţi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oţi oamenii sunt muri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iecare copil are părinţ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u se pot exprima în logica propoziţională şi deci nu se pot utiliza în demonstraţii din logica propoziţional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1. Toţi oamenii sunt muritori.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Este o propoziţie!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sau 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de x este subiect pentru ca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dicatu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 u="sng">
                <a:solidFill>
                  <a:srgbClr val="000000"/>
                </a:solidFill>
                <a:uFillTx/>
                <a:latin typeface="Arial"/>
              </a:rPr>
              <a:t>este om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(adică O) are se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punem că am 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descri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domeniul de valo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entru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. Fiecare copil are părinţ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066680" y="4230720"/>
                <a:ext cx="2133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</a:t>
            </a: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 fbf este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închis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acă are numai variabile legate. Altfel este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deschis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 O fbf închisă este o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propoziţi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Interpretare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 a unui limbaj formal </a:t>
            </a:r>
            <a:r>
              <a:rPr b="0" lang="ro-RO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domeni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nevid D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, colecţia                  de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element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in D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colecţ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funcţi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efinite pe D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colecţ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relaţi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 D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Interpretarea nu are în vedere variabil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Într-o interpretare cuantificatorul parcurge D</a:t>
            </a:r>
            <a:r>
              <a:rPr b="0" lang="ro-RO" sz="2400" spc="-1" strike="noStrike" baseline="-25000">
                <a:solidFill>
                  <a:srgbClr val="dddddd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295280" y="2286000"/>
                <a:ext cx="3581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∃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219320" y="2819520"/>
                <a:ext cx="48006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∃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590920" y="3930480"/>
                <a:ext cx="1295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880920" y="4302000"/>
                <a:ext cx="20145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ba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914400" y="4759200"/>
                <a:ext cx="20145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ba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16000" y="1905120"/>
            <a:ext cx="1993680" cy="1218960"/>
          </a:xfrm>
          <a:custGeom>
            <a:avLst/>
            <a:gdLst/>
            <a:ahLst/>
            <a:rect l="l" t="t" r="r" b="b"/>
            <a:pathLst>
              <a:path w="1256" h="768">
                <a:moveTo>
                  <a:pt x="1256" y="0"/>
                </a:moveTo>
                <a:cubicBezTo>
                  <a:pt x="732" y="32"/>
                  <a:pt x="208" y="64"/>
                  <a:pt x="104" y="192"/>
                </a:cubicBezTo>
                <a:cubicBezTo>
                  <a:pt x="0" y="320"/>
                  <a:pt x="316" y="544"/>
                  <a:pt x="632" y="7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28880" y="2209680"/>
            <a:ext cx="952200" cy="381240"/>
          </a:xfrm>
          <a:custGeom>
            <a:avLst/>
            <a:gdLst/>
            <a:ahLst/>
            <a:rect l="l" t="t" r="r" b="b"/>
            <a:pathLst>
              <a:path w="600" h="240">
                <a:moveTo>
                  <a:pt x="600" y="0"/>
                </a:moveTo>
                <a:cubicBezTo>
                  <a:pt x="372" y="52"/>
                  <a:pt x="144" y="104"/>
                  <a:pt x="72" y="144"/>
                </a:cubicBezTo>
                <a:cubicBezTo>
                  <a:pt x="0" y="184"/>
                  <a:pt x="84" y="212"/>
                  <a:pt x="168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</a:t>
            </a: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 fbf este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închis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acă are numai variabile legate. Altfel este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deschis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 O fbf închisă este o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propoziţi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Interpretare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 a unui limbaj formal </a:t>
            </a:r>
            <a:r>
              <a:rPr b="0" lang="ro-RO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domeni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nevid D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, colecţia                  de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element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in D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colecţ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funcţi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efinite pe D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colecţ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relaţi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 D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Interpretarea nu are în vedere variabil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Într-o interpretare cuantificatorul parcurge D</a:t>
            </a:r>
            <a:r>
              <a:rPr b="0" lang="ro-RO" sz="24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295280" y="2286000"/>
                <a:ext cx="3581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∃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2819520"/>
                <a:ext cx="48006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∃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590920" y="3930480"/>
                <a:ext cx="1295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880920" y="4302000"/>
                <a:ext cx="20145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ba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914400" y="4759200"/>
                <a:ext cx="20145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ba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216000" y="1905120"/>
            <a:ext cx="1993680" cy="1218960"/>
          </a:xfrm>
          <a:custGeom>
            <a:avLst/>
            <a:gdLst/>
            <a:ahLst/>
            <a:rect l="l" t="t" r="r" b="b"/>
            <a:pathLst>
              <a:path w="1256" h="768">
                <a:moveTo>
                  <a:pt x="1256" y="0"/>
                </a:moveTo>
                <a:cubicBezTo>
                  <a:pt x="732" y="32"/>
                  <a:pt x="208" y="64"/>
                  <a:pt x="104" y="192"/>
                </a:cubicBezTo>
                <a:cubicBezTo>
                  <a:pt x="0" y="320"/>
                  <a:pt x="316" y="544"/>
                  <a:pt x="632" y="76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28880" y="2209680"/>
            <a:ext cx="952200" cy="381240"/>
          </a:xfrm>
          <a:custGeom>
            <a:avLst/>
            <a:gdLst/>
            <a:ahLst/>
            <a:rect l="l" t="t" r="r" b="b"/>
            <a:pathLst>
              <a:path w="600" h="240">
                <a:moveTo>
                  <a:pt x="600" y="0"/>
                </a:moveTo>
                <a:cubicBezTo>
                  <a:pt x="372" y="52"/>
                  <a:pt x="144" y="104"/>
                  <a:pt x="72" y="144"/>
                </a:cubicBezTo>
                <a:cubicBezTo>
                  <a:pt x="0" y="184"/>
                  <a:pt x="84" y="212"/>
                  <a:pt x="168" y="24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</a:t>
            </a: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xemplu de limbaj de ordinul I: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Aritmetica formal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L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ţ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stanta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          (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pentr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edicatul                   (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pentr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galit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funcţiile                      (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pentr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succesor, adunare, prod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terpretarea N se defineşte pe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, 1, 2, …}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est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relaţia de egal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sun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funcţiile succesor, adunare, pro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19520" y="3200400"/>
                <a:ext cx="12189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479600" y="4495680"/>
                <a:ext cx="4255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498680" y="4952880"/>
                <a:ext cx="426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447920" y="5410080"/>
                <a:ext cx="10666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</a:t>
            </a: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xemplu de limbaj de ordinul I: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Aritmetica formal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această interpretare, fbf închise (propoziţiile) se interpretează ca propoziţii despre numerele natur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Pentru orice x şi y există z astfel ca x+z=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N este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fals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Q este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fals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 D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q}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ste relaţia de egal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unt funcţiile succe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dus, impar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ce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838080" y="2757600"/>
                <a:ext cx="5562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447920" y="4543560"/>
                <a:ext cx="369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554120" y="4952880"/>
                <a:ext cx="426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447920" y="5410080"/>
                <a:ext cx="10666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ba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</a:t>
            </a: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xemplu de limbaj de ordinul 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L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ţ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onstantele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variabilel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edicatul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funcţia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terpretarea I se defineşte pe D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,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∆,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,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,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∆,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⌂,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Variabilele nu se interpretează! Se evalueaz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590920" y="3352680"/>
                <a:ext cx="423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479600" y="4624560"/>
                <a:ext cx="4255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498680" y="5029200"/>
                <a:ext cx="426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523880" y="5457960"/>
                <a:ext cx="3636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422440" y="4624560"/>
                <a:ext cx="4590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</a:t>
            </a: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Evalua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este o funcţie v care alocă variabilelor obiecte din D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entru o interpretare se pot defini mai multe evaluăr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valuarea construieşte inductiv alocări pentru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termeni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limbajulu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xempl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v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●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v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●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v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905120" y="2819520"/>
                <a:ext cx="457200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ba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ba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09480" y="4800600"/>
                <a:ext cx="20574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</a:t>
            </a: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valuarea permite alocarea unei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valori de adevă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ntru ato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dicatele se interpretează şi propoziţia obţinută despre obiectele din D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ste adevărată sau fals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evara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ste adevărat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se lucrează cu fbf? Probleme apar din cauza cuantificatoril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838080" y="4056120"/>
                <a:ext cx="11430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914400" y="5867280"/>
                <a:ext cx="4268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6</a:t>
            </a: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ouă interpretări 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şi 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sunt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i-echivalen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ntru a putea evalua fbf care au cuantificatori, se consideră clase de evaluă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o clasă vom avea evaluări care diferă cel mult în x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şi termenii construiţi cu x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elaţia de i-echivalenţă este o relaţie de echivalenţă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e 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143000" y="2209680"/>
                <a:ext cx="403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entru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</a:t>
            </a: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fbf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i I o interpretare. O evaluare v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satisfac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acă se pot aplica inducti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v satisface atomul                         dacă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adevărată în D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v satisface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 dacă v nu satisface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700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v satisface (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 dacă v satisface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 sau v satisface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99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v satisface                   dacă orice evaluare i-echivalentă cu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atisface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(Alfred Tarsk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733920" y="2362320"/>
                <a:ext cx="1523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095880" y="2286000"/>
                <a:ext cx="21351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ba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819520" y="4114800"/>
                <a:ext cx="12189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</a:t>
            </a: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Exempl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e interpretări în aritmetica formal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rice interpretare cu v(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2 v(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6 v(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3 v(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4 satisface fb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rice interpretare cu v(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1 v(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5 v(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4 v(x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=2 nu satisface fb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rice interpretare satisface fb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ici o interpretare nu satisface fb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143000" y="2209680"/>
                <a:ext cx="434340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43000" y="4267080"/>
            <a:ext cx="3962520" cy="838440"/>
          </a:xfrm>
          <a:prstGeom prst="downArrow">
            <a:avLst>
              <a:gd name="adj1" fmla="val 63944"/>
              <a:gd name="adj2" fmla="val 20833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289548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3480" y="1508040"/>
            <a:ext cx="7635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3. Nu tot ce zboară se mănânc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oate A sunt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c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C nu e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xistă C care nu 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5. Nu se pot scrie tabele de adevăr pentru predicate fără cuantific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21760" y="2004840"/>
            <a:ext cx="3276720" cy="1771200"/>
            <a:chOff x="2021760" y="2004840"/>
            <a:chExt cx="3276720" cy="1771200"/>
          </a:xfrm>
        </p:grpSpPr>
        <p:sp>
          <p:nvSpPr>
            <p:cNvPr id="51" name=""/>
            <p:cNvSpPr/>
            <p:nvPr/>
          </p:nvSpPr>
          <p:spPr>
            <a:xfrm>
              <a:off x="4402800" y="3409920"/>
              <a:ext cx="204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36400" y="34099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85960" y="3409920"/>
              <a:ext cx="16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20200" y="34099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53440" y="34099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34400" y="3409920"/>
              <a:ext cx="204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21760" y="3409920"/>
              <a:ext cx="204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91400" y="2952720"/>
              <a:ext cx="307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)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26800" y="29527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74920" y="2952720"/>
              <a:ext cx="16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09160" y="29527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42400" y="29527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24880" y="29527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87640" y="2952720"/>
              <a:ext cx="16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15560" y="29527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59800" y="29527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22120" y="2952720"/>
              <a:ext cx="267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~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97640" y="2496960"/>
              <a:ext cx="307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)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31600" y="24969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33200" y="24969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66440" y="24969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15920" y="2496960"/>
              <a:ext cx="369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(~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59800" y="24969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22120" y="2496960"/>
              <a:ext cx="267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~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07280" y="2039760"/>
              <a:ext cx="307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)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40880" y="20397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99560" y="20397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34600" y="20397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15560" y="2039760"/>
              <a:ext cx="204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59800" y="203976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22120" y="2039760"/>
              <a:ext cx="267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~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59880" y="340992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33280" y="340992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77280" y="340992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9320" y="34099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93280" y="340992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50640" y="295272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22240" y="295272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66240" y="295272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38280" y="29527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72640" y="295272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55440" y="24969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27040" y="249696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9920" y="24969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62320" y="24969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72640" y="24969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64720" y="20397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8120" y="2039760"/>
              <a:ext cx="25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56640" y="20397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30480" y="20397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72640" y="2039760"/>
              <a:ext cx="13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69240" y="33750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10400" y="3375000"/>
              <a:ext cx="200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60000" y="291780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58440" y="2917800"/>
              <a:ext cx="21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21840" y="246204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58440" y="2462040"/>
              <a:ext cx="21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93240" y="2004840"/>
              <a:ext cx="247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58440" y="2004840"/>
              <a:ext cx="218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</a:t>
            </a: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aradoxul lui Russell (1901) care arată c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Teoria mulţimilor nu se poate formaliza în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ate mu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ile formeaz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 mu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, atunci 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fini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ulţim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poziţi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unt ambele 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143000" y="3657600"/>
                <a:ext cx="28195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∉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895480" y="4648320"/>
                <a:ext cx="14479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∉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724280" y="4648320"/>
                <a:ext cx="14479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</a:t>
            </a: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radoxul lui Berry. Considerăm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definiţi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lui 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cel mai mic întreg care nu se poate defini cu 12 cuvi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ie M numărul atomilor din Universul nostru la puterea numărul atomilor din Universul nostru. Arătaţi că 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i că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gt;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 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radoxul bărbierulu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bărbierul B bărbiereşte numai pe cei care nu se bărbieresc sing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rătaţi ca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B se bărbiereşt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este falsă şi că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B nu se bărbiereşt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este fals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ici un om nu este bun, dar unii oameni nu sunt răi. Atunc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oţi oamenii nu sunt ră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ici un om nu este ră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oţi oamenii nu sunt bu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ie funcţia f(x,y)=xy+1. Găsiţi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toat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evaluările astfel 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219320" y="6172200"/>
                <a:ext cx="30477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f</m:t>
                        </m:r>
                      </m:e>
                    </m:ba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</a:t>
            </a:r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 probl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e propunem să lucrăm cu noduri. Vom utiliz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elaţia unară g1(x) care arată că nodul x face parte din graful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elaţia unară g2(x) care arată că nodul x face parte din graful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elaţia binară edge(x,y) pentru a arăta că există o muchie între x şi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uncţia unar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are pune în corespondenţă fiecare nod cu alt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crieţi o propoziţie care spune că toate nodurile fac parte din unul şi numai unul dintre cele două grafu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Grafurile sunt izomorfe dacă există o funcţie bijectivă de la nodurile unuia la nodurile celuilalt, care păstreaz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 edg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Scrieţi o propoziţie care arată ca f este o funcţie de tipul descris mai 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</a:t>
            </a: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 probl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sing the following vocabul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logician(x) means that x is a logic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ffee(x) means that x drinks coff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works(x) means that x works h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heorems(x) means that x produces theor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riend(x) is a function that returns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 friend. (We assume that everybody has exactly one frien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= is a binary relation that is true if and only if the two arguments are the same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ranslate the following English sentences into log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1. No logicians drink coff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. Anybody who is a logician is also somebody’s fri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3. Nobody who produces theorems has a friend who drinks coff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. Everybody with a friend who works hard is either a logician or a hard wor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5. Every friend is a logic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99"/>
                </a:solidFill>
                <a:latin typeface="Arial"/>
              </a:rPr>
              <a:t>https://www.coursehero.com/file/4840718/ps2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</a:t>
            </a: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 predicati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mite utilizarea cuantificatorilor universal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xistenti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tenienii sunt grec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nian(x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c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ce lucru are un 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ru(x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t(p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oare(x,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ea cuantificatorilor nu poate fi schimb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ntru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-ar modifica semnifi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 afir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ru (x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t(p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oare(x,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 singur p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 c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au toate lucrur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14400" y="3041640"/>
                <a:ext cx="7747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28880" y="3917880"/>
                <a:ext cx="8762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266840" y="5181480"/>
                <a:ext cx="942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) şi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) două </a:t>
            </a: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predic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 p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socia </a:t>
            </a: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propoziţi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676520" y="3718080"/>
                <a:ext cx="54864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600200" y="3124080"/>
                <a:ext cx="553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2514600"/>
                <a:ext cx="4222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Friedrich Ludwig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Gottlo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Freg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848-1925 Germani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 fundamentat logica predicativă (logica de ordinul 1, First Order Logic FO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FOL se extinde logica propoziţională prin includerea constantelor, a variabilelor, a funcţiilor, a predicatelor şi a cuantificatorilor (universal şi existenţi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0"/>
            <a:ext cx="15494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</a:t>
            </a: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, limbajul</a:t>
            </a:r>
            <a:r>
              <a:rPr b="0" lang="ro-RO" sz="3600" spc="-1" strike="noStrike">
                <a:solidFill>
                  <a:srgbClr val="ff0000"/>
                </a:solidFill>
                <a:latin typeface="Arial"/>
              </a:rPr>
              <a:t> formal al calculului predicat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ţine următoarele seturi d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simbolur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 ( 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7400" y="35053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219320" y="3959280"/>
                <a:ext cx="4038480" cy="19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30" name=""/>
          <p:cNvGraphicFramePr/>
          <p:nvPr/>
        </p:nvGraphicFramePr>
        <p:xfrm>
          <a:off x="5334120" y="3505320"/>
          <a:ext cx="2819160" cy="239220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24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onstrucţi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i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a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ţi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</a:t>
            </a: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edicatele şi funcţiile sunt în ordinea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arităţi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numărului de argument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uncţiile sunt predicate speci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istele sunt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infini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deşi în fbf se utilizează un număr finit de simbolu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vor defini   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 V  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iorităţ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V   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↔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47920" y="50292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206880" y="4038480"/>
                <a:ext cx="37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05120" y="5029200"/>
                <a:ext cx="37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</a:t>
            </a: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rmen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ă sau variabil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ă              sunt termeni şi      e funcţie, atun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te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easta este singura metodă de generare a termeni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Termenii sunt obiectele cărora li se aplică funcţi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om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      este predicat şi             sunt terme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Atomii au rolul propoziţiilor simple din 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38280" y="243828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410080" y="2362320"/>
                <a:ext cx="48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600200" y="2819520"/>
                <a:ext cx="1542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90720" y="4419720"/>
                <a:ext cx="16761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413000" y="4876920"/>
                <a:ext cx="492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457880" y="4933800"/>
                <a:ext cx="11048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</a:t>
            </a: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9:06:24Z</dcterms:created>
  <dc:creator>Adela</dc:creator>
  <dc:description/>
  <dc:language>en-US</dc:language>
  <cp:lastModifiedBy>cerasela</cp:lastModifiedBy>
  <dcterms:modified xsi:type="dcterms:W3CDTF">2015-10-04T05:37:00Z</dcterms:modified>
  <cp:revision>248</cp:revision>
  <dc:subject/>
  <dc:title>LOGICA PROPOZIŢIONALĂ  Propoziţii şi conectori. Funcţii de  adevăr. Tabele de adevăr.  Forme propoziţionale.</dc:title>
</cp:coreProperties>
</file>