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6.wmf" ContentType="image/x-wmf"/>
  <Override PartName="/ppt/media/image18.wmf" ContentType="image/x-wmf"/>
  <Override PartName="/ppt/media/image15.png" ContentType="image/png"/>
  <Override PartName="/ppt/media/image14.png" ContentType="image/png"/>
  <Override PartName="/ppt/media/image4.wmf" ContentType="image/x-wmf"/>
  <Override PartName="/ppt/media/image2.png" ContentType="image/png"/>
  <Override PartName="/ppt/media/image3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67A7-EC84-45DF-8046-428466F42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C0DF-F96E-420B-A32E-E29BD0A50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5403-B998-4695-B863-01FDF57A0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4A2D-4FCD-4598-8413-BE645F348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8D3C-F359-428D-9E06-8EE5918BD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9E4B-D708-4E26-93E1-4181789FF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D088-78E1-4CFD-98FA-93C4A8276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7C59-C9CB-4DC1-8EB8-098804E61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9875-C15C-4E5C-8D94-A64605287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0268-8C5A-4B94-A025-EEF25B1B5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10F0-273A-4CC0-967F-0D39737A7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D696-3506-404A-9EF4-94B617FA3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80600-81C0-4AF5-9C6D-C3C7480410B1}" type="slidenum">
              <a:rPr b="0" lang="ro-RO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8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990360"/>
            <a:ext cx="838188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GICA PROPOZIŢIONALĂ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stem formal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rmulă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monstraţie. Deducţie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zoluţia propoziţională.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prezentarea semantică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R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ţ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le neuronal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495680"/>
            <a:ext cx="64008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LOGICA COMPUTA</a:t>
            </a:r>
            <a:r>
              <a:rPr b="0" lang="ro-RO" sz="3200" spc="-1" strike="noStrike">
                <a:solidFill>
                  <a:srgbClr val="000099"/>
                </a:solidFill>
                <a:latin typeface="Arial"/>
              </a:rPr>
              <a:t>Ţ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IONAL</a:t>
            </a:r>
            <a:r>
              <a:rPr b="0" lang="ro-RO" sz="3200" spc="-1" strike="noStrike">
                <a:solidFill>
                  <a:srgbClr val="000099"/>
                </a:solidFill>
                <a:latin typeface="Arial"/>
              </a:rPr>
              <a:t>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99"/>
                </a:solidFill>
                <a:latin typeface="Arial"/>
              </a:rPr>
              <a:t>INFORMATICĂ an 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Curs 5 </a:t>
            </a:r>
            <a:r>
              <a:rPr b="0" lang="ro-RO" sz="2400" spc="-1" strike="noStrike">
                <a:solidFill>
                  <a:srgbClr val="000099"/>
                </a:solidFill>
                <a:latin typeface="Arial"/>
              </a:rPr>
              <a:t>şi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stem form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Fi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 o mulţime de fbf. O secvenţă de fbf </a:t>
            </a:r>
            <a:r>
              <a:rPr b="1" lang="ro-RO" sz="28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1" lang="ro-RO" sz="2800" spc="-1" strike="noStrike" baseline="-25000">
                <a:solidFill>
                  <a:srgbClr val="000000"/>
                </a:solidFill>
                <a:latin typeface="Monotype Corsiva"/>
              </a:rPr>
              <a:t>1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, …,  </a:t>
            </a:r>
            <a:r>
              <a:rPr b="1" lang="ro-RO" sz="28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1" lang="ro-RO" sz="2800" spc="-1" strike="noStrike" baseline="-25000">
                <a:solidFill>
                  <a:srgbClr val="000000"/>
                </a:solidFill>
                <a:latin typeface="Monotype Corsiva"/>
              </a:rPr>
              <a:t>n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este o </a:t>
            </a:r>
            <a:r>
              <a:rPr b="0" lang="ro-RO" sz="2800" spc="-1" strike="noStrike">
                <a:solidFill>
                  <a:srgbClr val="ff0000"/>
                </a:solidFill>
                <a:latin typeface="Arial"/>
              </a:rPr>
              <a:t>deducţi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d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dac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1" lang="ro-RO" sz="2800" spc="-1" strike="noStrike" baseline="-25000">
                <a:solidFill>
                  <a:srgbClr val="000000"/>
                </a:solidFill>
                <a:latin typeface="Monotype Corsiva"/>
              </a:rPr>
              <a:t>i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 este o axiomă sa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1" lang="ro-RO" sz="2800" spc="-1" strike="noStrike" baseline="-25000">
                <a:solidFill>
                  <a:srgbClr val="000000"/>
                </a:solidFill>
                <a:latin typeface="Monotype Corsiva"/>
              </a:rPr>
              <a:t>i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ste o formula din H s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1" lang="ro-RO" sz="2800" spc="-1" strike="noStrike" baseline="-25000">
                <a:solidFill>
                  <a:srgbClr val="000000"/>
                </a:solidFill>
                <a:latin typeface="Monotype Corsiva"/>
              </a:rPr>
              <a:t>i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se obţine din </a:t>
            </a:r>
            <a:r>
              <a:rPr b="1" lang="ro-RO" sz="28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Monotype Corsiva"/>
              </a:rPr>
              <a:t>j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ro-RO" sz="28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Monotype Corsiva"/>
              </a:rPr>
              <a:t>k </a:t>
            </a:r>
            <a:r>
              <a:rPr b="1" lang="ro-RO" sz="2800" spc="-1" strike="noStrike" baseline="-25000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prin MP (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i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Spunem că secvenţa </a:t>
            </a:r>
            <a:r>
              <a:rPr b="1" lang="ro-RO" sz="28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1" lang="ro-RO" sz="2800" spc="-1" strike="noStrike" baseline="-25000">
                <a:solidFill>
                  <a:srgbClr val="000000"/>
                </a:solidFill>
                <a:latin typeface="Monotype Corsiva"/>
              </a:rPr>
              <a:t>1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, …,  </a:t>
            </a:r>
            <a:r>
              <a:rPr b="1" lang="ro-RO" sz="28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1" lang="ro-RO" sz="2800" spc="-1" strike="noStrike" baseline="-25000">
                <a:solidFill>
                  <a:srgbClr val="000000"/>
                </a:solidFill>
                <a:latin typeface="Monotype Corsiva"/>
              </a:rPr>
              <a:t>n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este  </a:t>
            </a:r>
            <a:r>
              <a:rPr b="0" lang="ro-RO" sz="2800" spc="-1" strike="noStrike">
                <a:solidFill>
                  <a:srgbClr val="ff0000"/>
                </a:solidFill>
                <a:latin typeface="Arial"/>
              </a:rPr>
              <a:t>deductibilă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d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sau că </a:t>
            </a:r>
            <a:r>
              <a:rPr b="0" lang="ro-RO" sz="2800" spc="-1" strike="noStrike">
                <a:solidFill>
                  <a:srgbClr val="ff0000"/>
                </a:solidFill>
                <a:latin typeface="Arial"/>
              </a:rPr>
              <a:t>este consecinţa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lui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în 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  <a:ea typeface="Arial"/>
              </a:rPr>
              <a:t>├</a:t>
            </a:r>
            <a:r>
              <a:rPr b="1" lang="ro-RO" sz="3200" spc="-1" strike="noStrike">
                <a:solidFill>
                  <a:srgbClr val="000000"/>
                </a:solidFill>
                <a:latin typeface="Monotype Corsiva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dddddd"/>
                </a:solidFill>
                <a:latin typeface="Arial"/>
              </a:rPr>
              <a:t>Obs.  Teoremele sunt deductibile d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4800600" y="5562720"/>
                <a:ext cx="38412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stem form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Fi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 o mulţime de fbf. O secvenţă de fbf </a:t>
            </a:r>
            <a:r>
              <a:rPr b="1" lang="ro-RO" sz="28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1" lang="ro-RO" sz="2800" spc="-1" strike="noStrike" baseline="-25000">
                <a:solidFill>
                  <a:srgbClr val="000000"/>
                </a:solidFill>
                <a:latin typeface="Monotype Corsiva"/>
              </a:rPr>
              <a:t>1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, …,  </a:t>
            </a:r>
            <a:r>
              <a:rPr b="1" lang="ro-RO" sz="28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1" lang="ro-RO" sz="2800" spc="-1" strike="noStrike" baseline="-25000">
                <a:solidFill>
                  <a:srgbClr val="000000"/>
                </a:solidFill>
                <a:latin typeface="Monotype Corsiva"/>
              </a:rPr>
              <a:t>n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este o </a:t>
            </a:r>
            <a:r>
              <a:rPr b="0" lang="ro-RO" sz="2800" spc="-1" strike="noStrike">
                <a:solidFill>
                  <a:srgbClr val="ff0000"/>
                </a:solidFill>
                <a:latin typeface="Arial"/>
              </a:rPr>
              <a:t>deducţi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d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dac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1" lang="ro-RO" sz="2800" spc="-1" strike="noStrike" baseline="-25000">
                <a:solidFill>
                  <a:srgbClr val="000000"/>
                </a:solidFill>
                <a:latin typeface="Monotype Corsiva"/>
              </a:rPr>
              <a:t>i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 este o axiomă sa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1" lang="ro-RO" sz="2800" spc="-1" strike="noStrike" baseline="-25000">
                <a:solidFill>
                  <a:srgbClr val="000000"/>
                </a:solidFill>
                <a:latin typeface="Monotype Corsiva"/>
              </a:rPr>
              <a:t>i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ste o formula din H s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1" lang="ro-RO" sz="2800" spc="-1" strike="noStrike" baseline="-25000">
                <a:solidFill>
                  <a:srgbClr val="000000"/>
                </a:solidFill>
                <a:latin typeface="Monotype Corsiva"/>
              </a:rPr>
              <a:t>i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se obţine din </a:t>
            </a:r>
            <a:r>
              <a:rPr b="1" lang="ro-RO" sz="28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Monotype Corsiva"/>
              </a:rPr>
              <a:t>j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ro-RO" sz="28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Monotype Corsiva"/>
              </a:rPr>
              <a:t>k </a:t>
            </a:r>
            <a:r>
              <a:rPr b="1" lang="ro-RO" sz="2800" spc="-1" strike="noStrike" baseline="-25000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prin MP (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i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Spunem că secvenţa </a:t>
            </a:r>
            <a:r>
              <a:rPr b="1" lang="ro-RO" sz="28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1" lang="ro-RO" sz="2800" spc="-1" strike="noStrike" baseline="-25000">
                <a:solidFill>
                  <a:srgbClr val="000000"/>
                </a:solidFill>
                <a:latin typeface="Monotype Corsiva"/>
              </a:rPr>
              <a:t>1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, …,  </a:t>
            </a:r>
            <a:r>
              <a:rPr b="1" lang="ro-RO" sz="28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1" lang="ro-RO" sz="2800" spc="-1" strike="noStrike" baseline="-25000">
                <a:solidFill>
                  <a:srgbClr val="000000"/>
                </a:solidFill>
                <a:latin typeface="Monotype Corsiva"/>
              </a:rPr>
              <a:t>n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este  </a:t>
            </a:r>
            <a:r>
              <a:rPr b="0" lang="ro-RO" sz="2800" spc="-1" strike="noStrike">
                <a:solidFill>
                  <a:srgbClr val="ff0000"/>
                </a:solidFill>
                <a:latin typeface="Arial"/>
              </a:rPr>
              <a:t>deductibilă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d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sau că </a:t>
            </a:r>
            <a:r>
              <a:rPr b="1" lang="ro-RO" sz="28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1" lang="ro-RO" sz="2800" spc="-1" strike="noStrike" baseline="-25000">
                <a:solidFill>
                  <a:srgbClr val="000000"/>
                </a:solidFill>
                <a:latin typeface="Monotype Corsiva"/>
              </a:rPr>
              <a:t>n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800" spc="-1" strike="noStrike">
                <a:solidFill>
                  <a:srgbClr val="ff0000"/>
                </a:solidFill>
                <a:latin typeface="Arial"/>
              </a:rPr>
              <a:t>este consecinţa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lui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în 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  <a:ea typeface="Arial"/>
              </a:rPr>
              <a:t>├</a:t>
            </a:r>
            <a:r>
              <a:rPr b="1" lang="ro-RO" sz="3200" spc="-1" strike="noStrike">
                <a:solidFill>
                  <a:srgbClr val="000000"/>
                </a:solidFill>
                <a:latin typeface="Monotype Corsiva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99"/>
                </a:solidFill>
                <a:latin typeface="Arial"/>
              </a:rPr>
              <a:t>Obs.  Teoremele sunt deductibile d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4797360" y="5589720"/>
                <a:ext cx="38412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stem form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xemplu.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e H = {A}. Din mu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ea H putem construi ur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area dedu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A      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)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axioma (L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din 1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ş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2 folosind 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~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B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este axioma (L3) în care a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stituit A cu ~B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ş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B cu ~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B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din 3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ş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4 folosind 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pre formula o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~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~B spunem 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e deduce din H = {A} în sistemul formal al calculului propoz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o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4648320" y="2489040"/>
                <a:ext cx="33012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stem form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Fie U mulţimea alcătuită din toate fbf. O </a:t>
            </a:r>
            <a:r>
              <a:rPr b="0" lang="ro-RO" sz="3200" spc="-1" strike="noStrike">
                <a:solidFill>
                  <a:srgbClr val="ff0000"/>
                </a:solidFill>
                <a:latin typeface="Arial"/>
              </a:rPr>
              <a:t>evaluare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în L este o funcţie v:U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  <a:ea typeface="Arial"/>
              </a:rPr>
              <a:t>→{A, F}, astfel încâ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v(</a:t>
            </a:r>
            <a:r>
              <a:rPr b="1" lang="ro-RO" sz="28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≠ v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~</a:t>
            </a:r>
            <a:r>
              <a:rPr b="1" lang="ro-RO" sz="28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v(</a:t>
            </a:r>
            <a:r>
              <a:rPr b="1" lang="ro-RO" sz="28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1" lang="ro-RO" sz="2800" spc="-1" strike="noStrike">
                <a:solidFill>
                  <a:srgbClr val="000000"/>
                </a:solidFill>
                <a:latin typeface="Monotype Corsiva"/>
              </a:rPr>
              <a:t>B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F dac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ă şi numai dacă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v(</a:t>
            </a:r>
            <a:r>
              <a:rPr b="1" lang="ro-RO" sz="28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A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v(</a:t>
            </a:r>
            <a:r>
              <a:rPr b="1" lang="ro-RO" sz="2800" spc="-1" strike="noStrike">
                <a:solidFill>
                  <a:srgbClr val="000000"/>
                </a:solidFill>
                <a:latin typeface="Monotype Corsiva"/>
              </a:rPr>
              <a:t>B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Monotype Corsiva"/>
              </a:rPr>
              <a:t>A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este </a:t>
            </a:r>
            <a:r>
              <a:rPr b="0" lang="ro-RO" sz="2800" spc="-1" strike="noStrike">
                <a:solidFill>
                  <a:srgbClr val="ff0000"/>
                </a:solidFill>
                <a:latin typeface="Arial"/>
              </a:rPr>
              <a:t>tautologi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dacă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v(</a:t>
            </a:r>
            <a:r>
              <a:rPr b="1" lang="ro-RO" sz="44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A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pentru orice evaluare v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Monotype Corsiva"/>
              </a:rPr>
              <a:t>A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este </a:t>
            </a:r>
            <a:r>
              <a:rPr b="0" lang="ro-RO" sz="2800" spc="-1" strike="noStrike">
                <a:solidFill>
                  <a:srgbClr val="ff0000"/>
                </a:solidFill>
                <a:latin typeface="Arial"/>
              </a:rPr>
              <a:t>contradicţi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dacă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v(</a:t>
            </a:r>
            <a:r>
              <a:rPr b="1" lang="ro-RO" sz="44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pentru orice evaluare v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stem form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0000"/>
                </a:solidFill>
                <a:latin typeface="Arial"/>
              </a:rPr>
              <a:t>Teorema de corectitud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În sistemul formal L orice teoremă este tautologi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0000"/>
                </a:solidFill>
                <a:latin typeface="Arial"/>
              </a:rPr>
              <a:t>Teorema de adecv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În sistemul formal L orice tautologie este teorem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0000"/>
                </a:solidFill>
                <a:latin typeface="Arial"/>
              </a:rPr>
              <a:t>Teorema de decidabili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În sistemul formal L există metode de a afla dacă o fbf este teorem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rimele dou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ă t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orem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fir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calculul propoz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onal mu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ea teoremelor coincide cu mu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ea tautologiilo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Ultima teorem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fir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xist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odal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ă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or de demonstrare a teoremelor (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reguli de inferen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ţ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us ponens: (p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p→q))→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us tolens: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p→q)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~q))→(~p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ul de rezol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rezentarea semant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stem form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stem form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0000"/>
                </a:solidFill>
                <a:latin typeface="Arial"/>
              </a:rPr>
              <a:t>Teorema deducţiei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  <a:ea typeface="Arial"/>
              </a:rPr>
              <a:t>├</a:t>
            </a:r>
            <a:r>
              <a:rPr b="0" lang="ro-RO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ro-RO" sz="40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0" lang="ro-RO" sz="40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1" lang="ro-RO" sz="4000" spc="-1" strike="noStrike">
                <a:solidFill>
                  <a:srgbClr val="000000"/>
                </a:solidFill>
                <a:latin typeface="Monotype Corsiva"/>
              </a:rPr>
              <a:t>B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) dacă şi numai dacă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  <a:ea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{</a:t>
            </a:r>
            <a:r>
              <a:rPr b="1" lang="ro-RO" sz="40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  <a:ea typeface="Arial"/>
              </a:rPr>
              <a:t>├ </a:t>
            </a:r>
            <a:r>
              <a:rPr b="1" lang="ro-RO" sz="4000" spc="-1" strike="noStrike">
                <a:solidFill>
                  <a:srgbClr val="000000"/>
                </a:solidFill>
                <a:latin typeface="Monotype Corsiva"/>
              </a:rPr>
              <a:t>B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orolar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 Dac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├ </a:t>
            </a:r>
            <a:r>
              <a:rPr b="1" lang="ro-RO" sz="36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H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├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ro-RO" sz="36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1" lang="ro-RO" sz="3600" spc="-1" strike="noStrike">
                <a:solidFill>
                  <a:srgbClr val="000000"/>
                </a:solidFill>
                <a:latin typeface="Monotype Corsiva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unci H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├ </a:t>
            </a:r>
            <a:r>
              <a:rPr b="1" lang="ro-RO" sz="3600" spc="-1" strike="noStrike">
                <a:solidFill>
                  <a:srgbClr val="000000"/>
                </a:solidFill>
                <a:latin typeface="Monotype Corsiva"/>
              </a:rPr>
              <a:t>B</a:t>
            </a:r>
            <a:r>
              <a:rPr b="1" lang="en-US" sz="3600" spc="-1" strike="noStrike">
                <a:solidFill>
                  <a:srgbClr val="000000"/>
                </a:solidFill>
                <a:latin typeface="Monotype Corsiva"/>
              </a:rPr>
              <a:t>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c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G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├ </a:t>
            </a:r>
            <a:r>
              <a:rPr b="1" lang="ro-RO" sz="36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unci H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├ </a:t>
            </a:r>
            <a:r>
              <a:rPr b="1" lang="ro-RO" sz="36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1" lang="en-US" sz="36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orolar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o-RO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, …,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o-RO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dacă şi numai dacă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  <a:ea typeface="Arial"/>
              </a:rPr>
              <a:t>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o-RO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…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o-RO" sz="2800" spc="-1" strike="noStrike" baseline="-25000">
                <a:solidFill>
                  <a:srgbClr val="000000"/>
                </a:solidFill>
                <a:latin typeface="Arial"/>
              </a:rPr>
              <a:t>n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2362320" y="411480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⊆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stem form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9999"/>
                </a:solidFill>
                <a:latin typeface="Arial"/>
              </a:rPr>
              <a:t>Teorema de decidabilitate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arată că metoda tabelelor de adevăr se poate utiliza în a arăta că o fbf este teorem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Această metodă mecanică poate fi îmbunătăţit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9999"/>
                </a:solidFill>
                <a:latin typeface="Arial"/>
              </a:rPr>
              <a:t>Teorema deducţiei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se utilizează în demonstrarea automată, reducân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  <a:ea typeface="Arial"/>
              </a:rPr>
              <a:t> la   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8001000" y="4876920"/>
                <a:ext cx="349200" cy="32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zoluţia propoziţional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Este o metodă mai rapidă pentru a demonstra teoreme pe baza unei mulţimi de premi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onstratiile se bazeaza pe metoda reducerii la absur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0000"/>
                </a:solidFill>
                <a:latin typeface="Arial"/>
              </a:rPr>
              <a:t>Metoda rezoluţiei propoziţion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Se scriu: premisele şi negaţia concluziei în forme normale conjunctive (fnc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Se transformă fnc în mulţime de clau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Se aplică regula de deducţie a rezoluţiei propoziţiona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Dacă se obţine clauza vidă, atunci concluzia derivă din premi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oda rezoluţiei propoziţion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9999"/>
                </a:solidFill>
                <a:latin typeface="Arial"/>
              </a:rPr>
              <a:t>Se scriu premisele şi negaţia concluziei în forme normale conjunctive (fnc)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– Curs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9999"/>
                </a:solidFill>
                <a:latin typeface="Arial"/>
              </a:rPr>
              <a:t>Se transformă fnc în mulţime de clauz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se transformă în </a:t>
            </a:r>
            <a:r>
              <a:rPr b="0" i="1" lang="ro-RO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clauze. Fiecare clauză are </a:t>
            </a:r>
            <a:r>
              <a:rPr b="0" i="1" lang="ro-RO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elemente </a:t>
            </a:r>
            <a:r>
              <a:rPr b="0" i="1" lang="ro-RO" sz="3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o-RO" sz="32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o-RO" sz="3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unde </a:t>
            </a:r>
            <a:r>
              <a:rPr b="0" i="1" lang="ro-RO" sz="3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o-RO" sz="3200" spc="-1" strike="noStrike" baseline="-25000">
                <a:solidFill>
                  <a:srgbClr val="000000"/>
                </a:solidFill>
                <a:latin typeface="Arial"/>
              </a:rPr>
              <a:t>ij 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este 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variabilă propoziţională sau negaţia unei variabile propoziţional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dddddd"/>
                </a:solidFill>
                <a:latin typeface="Arial"/>
              </a:rPr>
              <a:t>Ex.: ((pV(</a:t>
            </a:r>
            <a:r>
              <a:rPr b="0" lang="en-US" sz="2400" spc="-1" strike="noStrike">
                <a:solidFill>
                  <a:srgbClr val="dddddd"/>
                </a:solidFill>
                <a:latin typeface="Arial"/>
                <a:ea typeface="Arial"/>
              </a:rPr>
              <a:t>~</a:t>
            </a:r>
            <a:r>
              <a:rPr b="0" lang="ro-RO" sz="2400" spc="-1" strike="noStrike">
                <a:solidFill>
                  <a:srgbClr val="dddddd"/>
                </a:solidFill>
                <a:latin typeface="Arial"/>
              </a:rPr>
              <a:t>q))</a:t>
            </a:r>
            <a:r>
              <a:rPr b="0" lang="el-GR" sz="2400" spc="-1" strike="noStrike">
                <a:solidFill>
                  <a:srgbClr val="dddddd"/>
                </a:solidFill>
                <a:latin typeface="Arial"/>
                <a:ea typeface="Arial"/>
              </a:rPr>
              <a:t>Λ</a:t>
            </a:r>
            <a:r>
              <a:rPr b="0" lang="en-US" sz="2400" spc="-1" strike="noStrike">
                <a:solidFill>
                  <a:srgbClr val="dddddd"/>
                </a:solidFill>
                <a:latin typeface="Arial"/>
                <a:ea typeface="Arial"/>
              </a:rPr>
              <a:t>(</a:t>
            </a:r>
            <a:r>
              <a:rPr b="0" lang="ro-RO" sz="2400" spc="-1" strike="noStrike">
                <a:solidFill>
                  <a:srgbClr val="dddddd"/>
                </a:solidFill>
                <a:latin typeface="Arial"/>
                <a:ea typeface="Arial"/>
              </a:rPr>
              <a:t>(</a:t>
            </a:r>
            <a:r>
              <a:rPr b="0" lang="en-US" sz="2400" spc="-1" strike="noStrike">
                <a:solidFill>
                  <a:srgbClr val="dddddd"/>
                </a:solidFill>
                <a:latin typeface="Arial"/>
                <a:ea typeface="Arial"/>
              </a:rPr>
              <a:t>~</a:t>
            </a:r>
            <a:r>
              <a:rPr b="0" lang="ro-RO" sz="2400" spc="-1" strike="noStrike">
                <a:solidFill>
                  <a:srgbClr val="dddddd"/>
                </a:solidFill>
                <a:latin typeface="Arial"/>
              </a:rPr>
              <a:t>p)Vq)) se transformă în 2 clauz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{</a:t>
            </a:r>
            <a:r>
              <a:rPr b="0" lang="ro-RO" sz="2400" spc="-1" strike="noStrike">
                <a:solidFill>
                  <a:srgbClr val="dddddd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,</a:t>
            </a:r>
            <a:r>
              <a:rPr b="0" lang="ro-RO" sz="2400" spc="-1" strike="noStrike">
                <a:solidFill>
                  <a:srgbClr val="dddddd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dddddd"/>
                </a:solidFill>
                <a:latin typeface="Arial"/>
                <a:ea typeface="Arial"/>
              </a:rPr>
              <a:t>~</a:t>
            </a:r>
            <a:r>
              <a:rPr b="0" lang="ro-RO" sz="2400" spc="-1" strike="noStrike">
                <a:solidFill>
                  <a:srgbClr val="dddddd"/>
                </a:solidFill>
                <a:latin typeface="Arial"/>
              </a:rPr>
              <a:t>q)</a:t>
            </a: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} </a:t>
            </a:r>
            <a:r>
              <a:rPr b="0" lang="ro-RO" sz="2400" spc="-1" strike="noStrike">
                <a:solidFill>
                  <a:srgbClr val="dddddd"/>
                </a:solidFill>
                <a:latin typeface="Arial"/>
              </a:rPr>
              <a:t>şi</a:t>
            </a: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 {</a:t>
            </a:r>
            <a:r>
              <a:rPr b="0" lang="ro-RO" sz="2400" spc="-1" strike="noStrike">
                <a:solidFill>
                  <a:srgbClr val="dddddd"/>
                </a:solidFill>
                <a:latin typeface="Arial"/>
                <a:ea typeface="Arial"/>
              </a:rPr>
              <a:t>(</a:t>
            </a:r>
            <a:r>
              <a:rPr b="0" lang="en-US" sz="2400" spc="-1" strike="noStrike">
                <a:solidFill>
                  <a:srgbClr val="dddddd"/>
                </a:solidFill>
                <a:latin typeface="Arial"/>
                <a:ea typeface="Arial"/>
              </a:rPr>
              <a:t>~</a:t>
            </a:r>
            <a:r>
              <a:rPr b="0" lang="ro-RO" sz="2400" spc="-1" strike="noStrike">
                <a:solidFill>
                  <a:srgbClr val="dddddd"/>
                </a:solidFill>
                <a:latin typeface="Arial"/>
              </a:rPr>
              <a:t>p)</a:t>
            </a: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,</a:t>
            </a:r>
            <a:r>
              <a:rPr b="0" lang="ro-RO" sz="2400" spc="-1" strike="noStrike">
                <a:solidFill>
                  <a:srgbClr val="dddddd"/>
                </a:solidFill>
                <a:latin typeface="Arial"/>
              </a:rPr>
              <a:t>q</a:t>
            </a: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1219320" y="2901960"/>
                <a:ext cx="99036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limUpp>
                          <m:e/>
                          <m:lim>
                            <m:r>
                              <m:t xml:space="preserve">m</m:t>
                            </m:r>
                          </m:lim>
                        </m:limUpp>
                      </m:e>
                      <m:lim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lim>
                    </m:limLow>
                    <m:limLow>
                      <m:e>
                        <m:limUpp>
                          <m:e/>
                          <m:lim>
                            <m:r>
                              <m:t xml:space="preserve">n</m:t>
                            </m:r>
                          </m:lim>
                        </m:limUpp>
                      </m:e>
                      <m:lim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lim>
                    </m:limLow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p:transition spd="med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stem form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655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Un sistem formal se poate formula pur abstract, sau poate fi o descriere a unui fenomen real, a unui aspect al realităţii obiecti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dddddd"/>
                </a:solidFill>
                <a:latin typeface="Arial"/>
              </a:rPr>
              <a:t>ex: geometria sintetică (noţiuni primare, axiom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In matematică, demonstraţiile sunt realizate în sisteme formale. Teorema este “ultimul rând” al unei demonstraţi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dddddd"/>
                </a:solidFill>
                <a:latin typeface="Arial"/>
              </a:rPr>
              <a:t>ex: Într-un triunghi isoscel, unghiurile opuse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000" spc="-1" strike="noStrike">
                <a:solidFill>
                  <a:srgbClr val="dddddd"/>
                </a:solidFill>
                <a:latin typeface="Arial"/>
              </a:rPr>
              <a:t>laturilor congruente sunt congruent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avid Hilbert (1862-1943) a fondat </a:t>
            </a:r>
            <a:r>
              <a:rPr b="0" lang="ro-RO" sz="2000" spc="-1" strike="noStrike">
                <a:solidFill>
                  <a:srgbClr val="ff0000"/>
                </a:solidFill>
                <a:latin typeface="Arial"/>
              </a:rPr>
              <a:t>metamatematica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- disciplina care se ocupă de sistemele formale. Limbajul formal examinat este limbajul </a:t>
            </a:r>
            <a:r>
              <a:rPr b="0" lang="ro-RO" sz="2000" spc="-1" strike="noStrike">
                <a:solidFill>
                  <a:srgbClr val="ff0000"/>
                </a:solidFill>
                <a:latin typeface="Arial"/>
              </a:rPr>
              <a:t>obiect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. Limbajul în care acesta este discutat este </a:t>
            </a:r>
            <a:r>
              <a:rPr b="0" lang="ro-RO" sz="2000" spc="-1" strike="noStrike">
                <a:solidFill>
                  <a:srgbClr val="ff0000"/>
                </a:solidFill>
                <a:latin typeface="Arial"/>
              </a:rPr>
              <a:t>metalimbajul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. Metalimbajul este (de obicei) mai puţin formalizat decât limbajul obiec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994440" y="0"/>
            <a:ext cx="2149560" cy="29257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oda rezoluţiei propoziţion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9999"/>
                </a:solidFill>
                <a:latin typeface="Arial"/>
              </a:rPr>
              <a:t>Se scriu premisele şi negaţia concluziei în forme normale conjunctive (fnc)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– Cur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&amp;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9999"/>
                </a:solidFill>
                <a:latin typeface="Arial"/>
              </a:rPr>
              <a:t>Se transformă fnc în mulţime de clau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se transformă în </a:t>
            </a:r>
            <a:r>
              <a:rPr b="0" i="1" lang="ro-RO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clauze. Fiecare clauză are </a:t>
            </a:r>
            <a:r>
              <a:rPr b="0" i="1" lang="ro-RO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elemente </a:t>
            </a:r>
            <a:r>
              <a:rPr b="0" i="1" lang="ro-RO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o-RO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o-RO" sz="2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unde </a:t>
            </a:r>
            <a:r>
              <a:rPr b="0" i="1" lang="ro-RO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ro-RO" sz="2800" spc="-1" strike="noStrike" baseline="-25000">
                <a:solidFill>
                  <a:srgbClr val="000000"/>
                </a:solidFill>
                <a:latin typeface="Arial"/>
              </a:rPr>
              <a:t>ij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este 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variabilă propoziţională sau negaţia unei variabile propoziţional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99"/>
                </a:solidFill>
                <a:latin typeface="Arial"/>
              </a:rPr>
              <a:t>Ex.: ((pV(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Arial"/>
              </a:rPr>
              <a:t>~</a:t>
            </a:r>
            <a:r>
              <a:rPr b="0" lang="ro-RO" sz="2000" spc="-1" strike="noStrike">
                <a:solidFill>
                  <a:srgbClr val="000099"/>
                </a:solidFill>
                <a:latin typeface="Arial"/>
              </a:rPr>
              <a:t>q))</a:t>
            </a:r>
            <a:r>
              <a:rPr b="0" lang="el-GR" sz="2000" spc="-1" strike="noStrike">
                <a:solidFill>
                  <a:srgbClr val="000099"/>
                </a:solidFill>
                <a:latin typeface="Arial"/>
                <a:ea typeface="Arial"/>
              </a:rPr>
              <a:t>Λ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Arial"/>
              </a:rPr>
              <a:t>(</a:t>
            </a:r>
            <a:r>
              <a:rPr b="0" lang="ro-RO" sz="2000" spc="-1" strike="noStrike">
                <a:solidFill>
                  <a:srgbClr val="000099"/>
                </a:solidFill>
                <a:latin typeface="Arial"/>
                <a:ea typeface="Arial"/>
              </a:rPr>
              <a:t>(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Arial"/>
              </a:rPr>
              <a:t>~</a:t>
            </a:r>
            <a:r>
              <a:rPr b="0" lang="ro-RO" sz="2000" spc="-1" strike="noStrike">
                <a:solidFill>
                  <a:srgbClr val="000099"/>
                </a:solidFill>
                <a:latin typeface="Arial"/>
              </a:rPr>
              <a:t>p)Vq)) se transformă în 2 clauz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ro-RO" sz="2000" spc="-1" strike="noStrike">
                <a:solidFill>
                  <a:srgbClr val="000099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,</a:t>
            </a:r>
            <a:r>
              <a:rPr b="0" lang="ro-RO" sz="20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Arial"/>
              </a:rPr>
              <a:t>~</a:t>
            </a:r>
            <a:r>
              <a:rPr b="0" lang="ro-RO" sz="2000" spc="-1" strike="noStrike">
                <a:solidFill>
                  <a:srgbClr val="000099"/>
                </a:solidFill>
                <a:latin typeface="Arial"/>
              </a:rPr>
              <a:t>q)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} </a:t>
            </a:r>
            <a:r>
              <a:rPr b="0" lang="ro-RO" sz="2000" spc="-1" strike="noStrike">
                <a:solidFill>
                  <a:srgbClr val="000099"/>
                </a:solidFill>
                <a:latin typeface="Arial"/>
              </a:rPr>
              <a:t>şi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{</a:t>
            </a:r>
            <a:r>
              <a:rPr b="0" lang="ro-RO" sz="2000" spc="-1" strike="noStrike">
                <a:solidFill>
                  <a:srgbClr val="000099"/>
                </a:solidFill>
                <a:latin typeface="Arial"/>
                <a:ea typeface="Arial"/>
              </a:rPr>
              <a:t>(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Arial"/>
              </a:rPr>
              <a:t>~</a:t>
            </a:r>
            <a:r>
              <a:rPr b="0" lang="ro-RO" sz="2000" spc="-1" strike="noStrike">
                <a:solidFill>
                  <a:srgbClr val="000099"/>
                </a:solidFill>
                <a:latin typeface="Arial"/>
              </a:rPr>
              <a:t>p)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,</a:t>
            </a:r>
            <a:r>
              <a:rPr b="0" lang="ro-RO" sz="2000" spc="-1" strike="noStrike">
                <a:solidFill>
                  <a:srgbClr val="000099"/>
                </a:solidFill>
                <a:latin typeface="Arial"/>
              </a:rPr>
              <a:t>q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1219320" y="2901960"/>
                <a:ext cx="99036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limUpp>
                          <m:e/>
                          <m:lim>
                            <m:r>
                              <m:t xml:space="preserve">m</m:t>
                            </m:r>
                          </m:lim>
                        </m:limUpp>
                      </m:e>
                      <m:lim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lim>
                    </m:limLow>
                    <m:limLow>
                      <m:e>
                        <m:limUpp>
                          <m:e/>
                          <m:lim>
                            <m:r>
                              <m:t xml:space="preserve">n</m:t>
                            </m:r>
                          </m:lim>
                        </m:limUpp>
                      </m:e>
                      <m:lim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lim>
                    </m:limLow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p:transition spd="med"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oda rezoluţiei propoziţion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9999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9999"/>
                </a:solidFill>
                <a:latin typeface="Arial"/>
              </a:rPr>
              <a:t>Se aplică regula de deducţie a rezoluţiei propoziţiona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n dou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ă clauze care conţin una o variabilă propoziţională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şi cealaltă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~r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  <a:ea typeface="Arial"/>
              </a:rPr>
              <a:t>, se deduce clauza care conţine toţi literalii din cele două clauze, mai puţin pereche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{r, ~r}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2971800" y="4952880"/>
                <a:ext cx="2359080" cy="127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…</m:t>
                            </m:r>
                            <m:r>
                              <m:t xml:space="preserve">,</m:t>
                            </m:r>
                            <m:r>
                              <m:t xml:space="preserve">r</m:t>
                            </m:r>
                            <m:r>
                              <m:t xml:space="preserve">,</m:t>
                            </m:r>
                            <m:r>
                              <m:t xml:space="preserve">…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e>
                        </m:d>
                      </m:e>
                      <m:e>
                        <m:bar>
                          <m:barPr>
                            <m:pos m:val="bot"/>
                          </m:barPr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r>
                                  <m:t xml:space="preserve">…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~</m:t>
                                </m:r>
                                <m:r>
                                  <m:t xml:space="preserve">r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…</m:t>
                                </m:r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</m:e>
                            </m:d>
                          </m:e>
                        </m:bar>
                      </m:e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…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…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 spd="med"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685800" y="3048120"/>
            <a:ext cx="7391520" cy="2209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oda rezoluţiei propoziţion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219320" y="3886200"/>
            <a:ext cx="847440" cy="9684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2743200" y="3886200"/>
            <a:ext cx="849240" cy="9558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4343400" y="3886200"/>
            <a:ext cx="752400" cy="106380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5875200" y="3809880"/>
            <a:ext cx="1135080" cy="14097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5"/>
          <a:stretch/>
        </p:blipFill>
        <p:spPr>
          <a:xfrm>
            <a:off x="1523880" y="5361120"/>
            <a:ext cx="992160" cy="10396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7010280" y="45720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a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666880" y="56530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Gre</a:t>
            </a:r>
            <a:r>
              <a:rPr b="0" lang="ro-RO" sz="1800" spc="-1" strike="noStrike">
                <a:solidFill>
                  <a:srgbClr val="ff0000"/>
                </a:solidFill>
                <a:latin typeface="Arial"/>
              </a:rPr>
              <a:t>şit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14400" y="31240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Cazuri specia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33920" y="3328920"/>
            <a:ext cx="1981080" cy="368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ADIC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3048120" y="1447920"/>
                <a:ext cx="2359080" cy="12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…</m:t>
                            </m:r>
                            <m:r>
                              <m:t xml:space="preserve">,</m:t>
                            </m:r>
                            <m:r>
                              <m:t xml:space="preserve">r</m:t>
                            </m:r>
                            <m:r>
                              <m:t xml:space="preserve">,</m:t>
                            </m:r>
                            <m:r>
                              <m:t xml:space="preserve">…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e>
                        </m:d>
                      </m:e>
                      <m:e>
                        <m:bar>
                          <m:barPr>
                            <m:pos m:val="bot"/>
                          </m:barPr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r>
                                  <m:t xml:space="preserve">…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~</m:t>
                                </m:r>
                                <m:r>
                                  <m:t xml:space="preserve">r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…</m:t>
                                </m:r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</m:e>
                            </m:d>
                          </m:e>
                        </m:bar>
                      </m:e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…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…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 spd="med"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oda rezoluţiei propoziţion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9999"/>
                </a:solidFill>
                <a:latin typeface="Arial"/>
              </a:rPr>
              <a:t>4. Dacă se obţine clauza vidă, atunci concluzia derivă din premi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Clauza vidă se obţine din            adică din fnc p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~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p), care este contradicţie. Dec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  <a:ea typeface="Arial"/>
              </a:rPr>
              <a:t>├</a:t>
            </a:r>
            <a:r>
              <a:rPr b="1" lang="ro-RO" sz="28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1" lang="ro-RO" sz="2800" spc="-1" strike="noStrike" baseline="-25000">
                <a:solidFill>
                  <a:srgbClr val="000000"/>
                </a:solidFill>
                <a:latin typeface="Monotype Corsiva"/>
              </a:rPr>
              <a:t>1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…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1" lang="ro-RO" sz="2800" spc="-1" strike="noStrike" baseline="-25000">
                <a:solidFill>
                  <a:srgbClr val="000000"/>
                </a:solidFill>
                <a:latin typeface="Monotype Corsiva"/>
              </a:rPr>
              <a:t>n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1" lang="ro-RO" sz="2800" spc="-1" strike="noStrike" baseline="-25000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~</a:t>
            </a:r>
            <a:r>
              <a:rPr b="1" lang="ro-RO" sz="28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este contradicţie, adic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  <a:ea typeface="Arial"/>
              </a:rPr>
              <a:t>├</a:t>
            </a:r>
            <a:r>
              <a:rPr b="0" lang="ro-RO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~</a:t>
            </a:r>
            <a:r>
              <a:rPr b="1" lang="ro-RO" sz="28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1" lang="ro-RO" sz="2800" spc="-1" strike="noStrike" baseline="-25000">
                <a:solidFill>
                  <a:srgbClr val="000000"/>
                </a:solidFill>
                <a:latin typeface="Monotype Corsiva"/>
              </a:rPr>
              <a:t>1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…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~</a:t>
            </a:r>
            <a:r>
              <a:rPr b="1" lang="ro-RO" sz="28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1" lang="ro-RO" sz="2800" spc="-1" strike="noStrike" baseline="-25000">
                <a:solidFill>
                  <a:srgbClr val="000000"/>
                </a:solidFill>
                <a:latin typeface="Monotype Corsiva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1" lang="ro-RO" sz="28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este tautologie (de Morga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1" lang="ro-RO" sz="2800" spc="-1" strike="noStrike" baseline="-25000">
                <a:solidFill>
                  <a:srgbClr val="000000"/>
                </a:solidFill>
                <a:latin typeface="Monotype Corsiva"/>
              </a:rPr>
              <a:t>1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, …,  </a:t>
            </a:r>
            <a:r>
              <a:rPr b="1" lang="ro-RO" sz="28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1" lang="ro-RO" sz="2800" spc="-1" strike="noStrike" baseline="-25000">
                <a:solidFill>
                  <a:srgbClr val="000000"/>
                </a:solidFill>
                <a:latin typeface="Monotype Corsiva"/>
              </a:rPr>
              <a:t>n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├</a:t>
            </a:r>
            <a:r>
              <a:rPr b="1" lang="ro-RO" sz="2800" spc="-1" strike="noStrike">
                <a:solidFill>
                  <a:srgbClr val="000000"/>
                </a:solidFill>
                <a:latin typeface="Monotype Corsiva"/>
              </a:rPr>
              <a:t>A 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(Cor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2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T. Deducţie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724280" y="2365200"/>
            <a:ext cx="752760" cy="106380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</p:spTree>
  </p:cSld>
  <p:transition spd="med"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oda rezoluţiei propoziţion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mplu: Avem ur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arele premi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 va demonstra ade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l lui s. Se vor aduce premisele la forma conjuncti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1066680" y="1905120"/>
                <a:ext cx="167652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p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p</m:t>
                            </m:r>
                            <m:r>
                              <m:t xml:space="preserve">→</m:t>
                            </m:r>
                            <m:r>
                              <m:t xml:space="preserve">q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1143000" y="4267080"/>
                <a:ext cx="3886200" cy="215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p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  <m:r>
                              <m:t xml:space="preserve">p</m:t>
                            </m:r>
                            <m:r>
                              <m:t xml:space="preserve">∨</m:t>
                            </m:r>
                            <m:r>
                              <m:t xml:space="preserve">q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 spd="med"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losind metoda rezol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ţi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propoz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ţional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m presupune adevar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~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ş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vom ajunge la o contrad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ul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ul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ul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oda rezoluţiei propoziţion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057400" y="1905120"/>
                <a:ext cx="878040" cy="12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  <m:r>
                              <m:t xml:space="preserve">s</m:t>
                            </m:r>
                          </m:e>
                        </m:d>
                      </m:e>
                      <m:e>
                        <m:bar>
                          <m:barPr>
                            <m:pos m:val="bot"/>
                          </m:barPr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~</m:t>
                                </m:r>
                                <m:r>
                                  <m:t xml:space="preserve">q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s</m:t>
                                </m:r>
                              </m:e>
                            </m:d>
                          </m:e>
                        </m:bar>
                      </m:e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  <m:r>
                              <m:t xml:space="preserve">q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2133720" y="3352680"/>
                <a:ext cx="941400" cy="12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  <m:r>
                              <m:t xml:space="preserve">q</m:t>
                            </m:r>
                          </m:e>
                        </m:d>
                      </m:e>
                      <m:e>
                        <m:bar>
                          <m:barPr>
                            <m:pos m:val="bot"/>
                          </m:barPr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~</m:t>
                                </m:r>
                                <m:r>
                                  <m:t xml:space="preserve">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q</m:t>
                                </m:r>
                              </m:e>
                            </m:d>
                          </m:e>
                        </m:bar>
                      </m:e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  <m:r>
                              <m:t xml:space="preserve">p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2209680" y="4800600"/>
                <a:ext cx="685800" cy="12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p</m:t>
                            </m:r>
                          </m:e>
                        </m:d>
                      </m:e>
                      <m:e>
                        <m:bar>
                          <m:barPr>
                            <m:pos m:val="bot"/>
                          </m:barPr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~</m:t>
                                </m:r>
                                <m:r>
                                  <m:t xml:space="preserve">p</m:t>
                                </m:r>
                              </m:e>
                            </m:d>
                          </m:e>
                        </m:bar>
                      </m:e>
                      <m:e>
                        <m:d>
                          <m:dPr>
                            <m:begChr m:val="{"/>
                            <m:endChr m:val="}"/>
                          </m:dPr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0" name=""/>
          <p:cNvSpPr/>
          <p:nvPr/>
        </p:nvSpPr>
        <p:spPr>
          <a:xfrm>
            <a:off x="152280" y="46944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prezentarea semantic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Este o altă metodă rapidă pentru a demonstra teoreme pe baza unei mulţimi de premise. Nu necesită scrierea în fnc; se înlocuiesc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→ şi ↔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0000"/>
                </a:solidFill>
                <a:latin typeface="Arial"/>
              </a:rPr>
              <a:t>Metoda reprezentării seman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Se scrie o fbf prin legarea cu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Λ a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premiselor şi a negaţiei concluzie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Se aplică regula de expandare a reprezentării semant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Dacă fiecare ramură a arborelui conţine o variabilă şi negaţia acesteia, atunci concluzia derivă din premi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oda reprezentării seman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991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9999"/>
                </a:solidFill>
                <a:latin typeface="Arial"/>
              </a:rPr>
              <a:t>Se scrie o fbf prin legarea cu </a:t>
            </a:r>
            <a:r>
              <a:rPr b="0" lang="el-GR" sz="3200" spc="-1" strike="noStrike">
                <a:solidFill>
                  <a:srgbClr val="009999"/>
                </a:solidFill>
                <a:latin typeface="Arial"/>
                <a:ea typeface="Arial"/>
              </a:rPr>
              <a:t>Λ</a:t>
            </a:r>
            <a:r>
              <a:rPr b="0" lang="ro-RO" sz="3200" spc="-1" strike="noStrike">
                <a:solidFill>
                  <a:srgbClr val="009999"/>
                </a:solidFill>
                <a:latin typeface="Arial"/>
                <a:ea typeface="Arial"/>
              </a:rPr>
              <a:t> a</a:t>
            </a:r>
            <a:r>
              <a:rPr b="0" lang="ro-RO" sz="3200" spc="-1" strike="noStrike">
                <a:solidFill>
                  <a:srgbClr val="009999"/>
                </a:solidFill>
                <a:latin typeface="Arial"/>
              </a:rPr>
              <a:t> premiselor şi a negaţiei concluzie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Aceeaşi idee ca şi la rezoluţia propoziţională, bazată pe Cor. T. Deducţiei. Se încearcă evidenţierea contradicţie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9999"/>
                </a:solidFill>
                <a:latin typeface="Arial"/>
              </a:rPr>
              <a:t>2.  Se aplică regula de expandare a reprezentării semant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Nodu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~~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H se expandează cu fiul H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Nodul GVH se expandează cu fiii G şi H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Nodu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~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(GVH) se expandează cu fiu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~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G şi fiul acestui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~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H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Nodul G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H se expandează cu fiul G şi fiul acestuia H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Nodu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~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(G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H) se expandează cu fiii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~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G şi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~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oda reprezentării seman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3.  Dacă fiecare ramură a arborelui conţine un atom şi negaţia acestuia, atunci concluzia derivă din prem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oda creează un arbore. Se declară un drum de la rădăcină către o frunză închis, dacă există un literal şi negaţia lui. Dacă toate ramurile sunt închise, atunci concluzia derivă din premis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80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prezentarea semantic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80880" y="1752480"/>
            <a:ext cx="3429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1447920"/>
            <a:ext cx="4495680" cy="54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99"/>
                </a:solidFill>
                <a:latin typeface="Arial"/>
              </a:rPr>
              <a:t>Să se arate c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~</a:t>
            </a:r>
            <a:r>
              <a:rPr b="0" lang="ro-RO" sz="2000" spc="-1" strike="noStrike">
                <a:solidFill>
                  <a:srgbClr val="000099"/>
                </a:solidFill>
                <a:latin typeface="Arial"/>
              </a:rPr>
              <a:t>(c</a:t>
            </a:r>
            <a:r>
              <a:rPr b="0" lang="el-GR" sz="2000" spc="-1" strike="noStrike">
                <a:solidFill>
                  <a:srgbClr val="000099"/>
                </a:solidFill>
                <a:latin typeface="Arial"/>
                <a:ea typeface="Arial"/>
              </a:rPr>
              <a:t>Λ</a:t>
            </a:r>
            <a:r>
              <a:rPr b="0" lang="ro-RO" sz="2000" spc="-1" strike="noStrike">
                <a:solidFill>
                  <a:srgbClr val="000099"/>
                </a:solidFill>
                <a:latin typeface="Arial"/>
                <a:ea typeface="Arial"/>
              </a:rPr>
              <a:t>((dVe)</a:t>
            </a:r>
            <a:r>
              <a:rPr b="0" lang="el-GR" sz="2000" spc="-1" strike="noStrike">
                <a:solidFill>
                  <a:srgbClr val="000099"/>
                </a:solidFill>
                <a:latin typeface="Arial"/>
              </a:rPr>
              <a:t>Λ</a:t>
            </a:r>
            <a:r>
              <a:rPr b="0" lang="ro-RO" sz="20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~</a:t>
            </a:r>
            <a:r>
              <a:rPr b="0" lang="ro-RO" sz="2000" spc="-1" strike="noStrike">
                <a:solidFill>
                  <a:srgbClr val="000099"/>
                </a:solidFill>
                <a:latin typeface="Arial"/>
              </a:rPr>
              <a:t>eVp)))V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ro-RO" sz="2000" spc="-1" strike="noStrike">
                <a:solidFill>
                  <a:srgbClr val="000099"/>
                </a:solidFill>
                <a:latin typeface="Arial"/>
              </a:rPr>
              <a:t>c</a:t>
            </a:r>
            <a:r>
              <a:rPr b="0" lang="el-GR" sz="2000" spc="-1" strike="noStrike">
                <a:solidFill>
                  <a:srgbClr val="000099"/>
                </a:solidFill>
                <a:latin typeface="Arial"/>
              </a:rPr>
              <a:t>Λ</a:t>
            </a:r>
            <a:r>
              <a:rPr b="0" lang="ro-RO" sz="2000" spc="-1" strike="noStrike">
                <a:solidFill>
                  <a:srgbClr val="000099"/>
                </a:solidFill>
                <a:latin typeface="Arial"/>
              </a:rPr>
              <a:t>(dVp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99"/>
                </a:solidFill>
                <a:latin typeface="Arial"/>
              </a:rPr>
              <a:t>este tautolog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Se porneşte de l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garea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for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şi se aplică regula de expandare. În stânga arborelui este adâncimea, în dreapta este indicat nodul care se procesează pentru a se obţine nodul cure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Când pe o ramură se întâlneşte perechea (a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a), cu a literal, ramura se închide (prin marcarea cu </a:t>
            </a:r>
            <a:r>
              <a:rPr b="0" lang="ro-RO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Scrierea pe verticală şi numerotarea paşilor este </a:t>
            </a:r>
            <a:r>
              <a:rPr b="0" lang="ro-RO" sz="2000" spc="-1" strike="noStrike">
                <a:solidFill>
                  <a:srgbClr val="ff0000"/>
                </a:solidFill>
                <a:latin typeface="Arial"/>
              </a:rPr>
              <a:t>metoda lui Hilbert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de demonstra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38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433760" y="228600"/>
                <a:ext cx="4510080" cy="640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∧</m:t>
                        </m:r>
                        <m:r>
                          <m:t xml:space="preserve">(</m:t>
                        </m:r>
                        <m:r>
                          <m:t xml:space="preserve">(</m:t>
                        </m:r>
                        <m:r>
                          <m:t xml:space="preserve">d</m:t>
                        </m:r>
                        <m:r>
                          <m:t xml:space="preserve">∨</m:t>
                        </m:r>
                        <m:r>
                          <m:t xml:space="preserve">e</m:t>
                        </m:r>
                        <m:r>
                          <m:t xml:space="preserve">)</m:t>
                        </m:r>
                        <m:r>
                          <m:t xml:space="preserve">∧</m:t>
                        </m:r>
                        <m:r>
                          <m:t xml:space="preserve">(</m:t>
                        </m:r>
                        <m:r>
                          <m:t xml:space="preserve">∼</m:t>
                        </m:r>
                        <m:r>
                          <m:t xml:space="preserve">e</m:t>
                        </m:r>
                        <m:r>
                          <m:t xml:space="preserve">∨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∨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∧</m:t>
                        </m:r>
                        <m:r>
                          <m:t xml:space="preserve">(</m:t>
                        </m:r>
                        <m:r>
                          <m:t xml:space="preserve">d</m:t>
                        </m:r>
                        <m:r>
                          <m:t xml:space="preserve">∨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↓</m:t>
                        </m:r>
                      </m:e>
                      <m:e>
                        <m:r>
                          <m:t xml:space="preserve">2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∧</m:t>
                        </m:r>
                        <m:r>
                          <m:t xml:space="preserve">(</m:t>
                        </m:r>
                        <m:r>
                          <m:t xml:space="preserve">(</m:t>
                        </m:r>
                        <m:r>
                          <m:t xml:space="preserve">d</m:t>
                        </m:r>
                        <m:r>
                          <m:t xml:space="preserve">∨</m:t>
                        </m:r>
                        <m:r>
                          <m:t xml:space="preserve">e</m:t>
                        </m:r>
                        <m:r>
                          <m:t xml:space="preserve">)</m:t>
                        </m:r>
                        <m:r>
                          <m:t xml:space="preserve">∧</m:t>
                        </m:r>
                        <m:r>
                          <m:t xml:space="preserve">(</m:t>
                        </m:r>
                        <m:r>
                          <m:t xml:space="preserve">∼</m:t>
                        </m:r>
                        <m:r>
                          <m:t xml:space="preserve">e</m:t>
                        </m:r>
                        <m:r>
                          <m:t xml:space="preserve">∨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iii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↓</m:t>
                        </m:r>
                      </m:e>
                      <m:e>
                        <m:r>
                          <m:t xml:space="preserve">3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∧</m:t>
                        </m:r>
                        <m:r>
                          <m:t xml:space="preserve">(</m:t>
                        </m:r>
                        <m:r>
                          <m:t xml:space="preserve">d</m:t>
                        </m:r>
                        <m:r>
                          <m:t xml:space="preserve">∨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iii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↓</m:t>
                        </m:r>
                      </m:e>
                      <m:e>
                        <m:r>
                          <m:t xml:space="preserve">4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∧</m:t>
                        </m:r>
                        <m:r>
                          <m:t xml:space="preserve">(</m:t>
                        </m:r>
                        <m:r>
                          <m:t xml:space="preserve">(</m:t>
                        </m:r>
                        <m:r>
                          <m:t xml:space="preserve">d</m:t>
                        </m:r>
                        <m:r>
                          <m:t xml:space="preserve">∨</m:t>
                        </m:r>
                        <m:r>
                          <m:t xml:space="preserve">e</m:t>
                        </m:r>
                        <m:r>
                          <m:t xml:space="preserve">)</m:t>
                        </m:r>
                        <m:r>
                          <m:t xml:space="preserve">∧</m:t>
                        </m:r>
                        <m:r>
                          <m:t xml:space="preserve">(</m:t>
                        </m:r>
                        <m:r>
                          <m:t xml:space="preserve">∼</m:t>
                        </m:r>
                        <m:r>
                          <m:t xml:space="preserve">e</m:t>
                        </m:r>
                        <m:r>
                          <m:t xml:space="preserve">∨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↓</m:t>
                        </m:r>
                      </m:e>
                      <m:e>
                        <m:r>
                          <m:t xml:space="preserve">5</m:t>
                        </m:r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iv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↓</m:t>
                        </m:r>
                      </m:e>
                      <m:e>
                        <m:r>
                          <m:t xml:space="preserve">6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d</m:t>
                        </m:r>
                        <m:r>
                          <m:t xml:space="preserve">∨</m:t>
                        </m:r>
                        <m:r>
                          <m:t xml:space="preserve">e</m:t>
                        </m:r>
                        <m:r>
                          <m:t xml:space="preserve">)</m:t>
                        </m:r>
                        <m:r>
                          <m:t xml:space="preserve">∧</m:t>
                        </m:r>
                        <m:r>
                          <m:t xml:space="preserve">(</m:t>
                        </m:r>
                        <m:r>
                          <m:t xml:space="preserve">∼</m:t>
                        </m:r>
                        <m:r>
                          <m:t xml:space="preserve">e</m:t>
                        </m:r>
                        <m:r>
                          <m:t xml:space="preserve">∨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iv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↓</m:t>
                        </m:r>
                      </m:e>
                      <m:e>
                        <m:r>
                          <m:t xml:space="preserve">7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d</m:t>
                        </m:r>
                        <m:r>
                          <m:t xml:space="preserve">∨</m:t>
                        </m:r>
                        <m:r>
                          <m:t xml:space="preserve">e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6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iv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↓</m:t>
                        </m:r>
                      </m:e>
                      <m:e>
                        <m:r>
                          <m:t xml:space="preserve">8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t xml:space="preserve">e</m:t>
                        </m:r>
                        <m:r>
                          <m:t xml:space="preserve">∨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6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iv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←</m:t>
                        </m:r>
                        <m:r>
                          <m:t xml:space="preserve"> </m:t>
                        </m:r>
                        <m:r>
                          <m:t xml:space="preserve">→</m:t>
                        </m:r>
                      </m:e>
                      <m:e>
                        <m:r>
                          <m:t xml:space="preserve">9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t xml:space="preserve">c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t xml:space="preserve">(</m:t>
                        </m:r>
                        <m:r>
                          <m:t xml:space="preserve">d</m:t>
                        </m:r>
                        <m:r>
                          <m:t xml:space="preserve">∨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ii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⋅</m:t>
                        </m:r>
                        <m:r>
                          <m:t xml:space="preserve"> </m:t>
                        </m:r>
                        <m:r>
                          <m:t xml:space="preserve">↓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t xml:space="preserve">d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9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iii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↓</m:t>
                        </m:r>
                        <m:r>
                          <m:t xml:space="preserve">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t xml:space="preserve">p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9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iii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←</m:t>
                        </m:r>
                        <m:r>
                          <m:t xml:space="preserve"> </m:t>
                        </m:r>
                        <m:r>
                          <m:t xml:space="preserve">→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 </m:t>
                        </m:r>
                        <m:r>
                          <m:t xml:space="preserve">d</m:t>
                        </m:r>
                        <m:r>
                          <m:t xml:space="preserve"> </m:t>
                        </m:r>
                        <m:r>
                          <m:t xml:space="preserve">e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7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ii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⋅</m:t>
                        </m:r>
                        <m:r>
                          <m:t xml:space="preserve"> </m:t>
                        </m:r>
                        <m:r>
                          <m:t xml:space="preserve">←</m:t>
                        </m:r>
                        <m:r>
                          <m:t xml:space="preserve"> </m:t>
                        </m:r>
                        <m:r>
                          <m:t xml:space="preserve">→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t xml:space="preserve">e</m:t>
                        </m:r>
                        <m:r>
                          <m:t xml:space="preserve"> </m:t>
                        </m:r>
                        <m:r>
                          <m:t xml:space="preserve">p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8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ii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⋅</m:t>
                        </m:r>
                        <m:r>
                          <m:t xml:space="preserve"> </m:t>
                        </m:r>
                        <m:r>
                          <m:t xml:space="preserve">⋅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 spd="med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stem form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655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Un sistem formal se poate formula pur abstract, sau poate fi o descriere a unui fenomen real, a unui aspect al realităţii obiecti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99"/>
                </a:solidFill>
                <a:latin typeface="Arial"/>
              </a:rPr>
              <a:t>ex: geometria sintetică (noţiuni primare, axiom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In matematică, demonstraţiile sunt realizate în sisteme formale. Teorema este “ultimul rând” al unei demonstraţi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dddddd"/>
                </a:solidFill>
                <a:latin typeface="Arial"/>
              </a:rPr>
              <a:t>ex: Într-un triunghi isoscel, unghiurile opuse laturilor congruente sunt congruent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avid Hilbert (1862-1943) a fondat </a:t>
            </a:r>
            <a:r>
              <a:rPr b="0" lang="ro-RO" sz="2000" spc="-1" strike="noStrike">
                <a:solidFill>
                  <a:srgbClr val="ff0000"/>
                </a:solidFill>
                <a:latin typeface="Arial"/>
              </a:rPr>
              <a:t>metamatematica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- disciplina care se ocupă de sistemele formale. Limbajul formal examinat este limbajul </a:t>
            </a:r>
            <a:r>
              <a:rPr b="0" lang="ro-RO" sz="2000" spc="-1" strike="noStrike">
                <a:solidFill>
                  <a:srgbClr val="ff0000"/>
                </a:solidFill>
                <a:latin typeface="Arial"/>
              </a:rPr>
              <a:t>obiect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. Limbajul în care acesta este discutat este </a:t>
            </a:r>
            <a:r>
              <a:rPr b="0" lang="ro-RO" sz="2000" spc="-1" strike="noStrike">
                <a:solidFill>
                  <a:srgbClr val="ff0000"/>
                </a:solidFill>
                <a:latin typeface="Arial"/>
              </a:rPr>
              <a:t>metalimbajul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. Metalimbajul este (de obicei) mai puţin formalizat decât limbajul obiec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994440" y="0"/>
            <a:ext cx="2149560" cy="29257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zi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Există mai multe metode de a demonstra o teoremă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Tabele de adevă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Rezoluţia propoziţional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Reprezentarea semantic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新細明體"/>
              </a:rPr>
              <a:t>Pentru a demonstra că o propoziţie (concluzia) este adevărată, se încearcă demonstrarea faptului că negata sa produce o contradic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新細明體"/>
              </a:rPr>
              <a:t>ie la nivelul ipotezelor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În acest sens, asupra enunţului iniţial trebuie aplicate o serie de rafinări succesive, bazate pe câteva reguli de transformare a formulel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000000"/>
                </a:solidFill>
                <a:latin typeface="Arial"/>
              </a:rPr>
              <a:t>Reţele neuronale (Rosenblatt, 196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osebiri faţă de procesarea clasic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ţeaua neuronală este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antrenat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nu programat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area se face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distribu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asincr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aral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nu centralizat, sincron, serial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nderile sunt memoria reţelei, deci memoria sa este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distribuit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nu localizată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ţeaua neuronală este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olerantă la eror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programarea clasică are toleranţă 0 la erori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000000"/>
                </a:solidFill>
                <a:latin typeface="Arial"/>
              </a:rPr>
              <a:t>Reţele neuronale (Rosenblatt, 196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Frank Rosenblatt a dezvoltat teoria reţelelor neuronale. Utilizarea lor actual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Identificare voce, figuri, semnale, amprent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Data min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anali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automa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 unor seturi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mari de date pentru a descoperi relaţii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Predicţii meteo, comportamentale, dezastr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Învăţare automată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eur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ste o celulă specializată a creierului care poate propaga un semnal electrochimi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uronul colectează semnale de la alţi neuroni vecini printr-o structură de conexiuni, numit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endri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uronul transmite apoi semnale, ca rezultat al activităţii electrico-chimice interioare, prin intermediul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xonului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e se divide în mii de ramuri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capătul fiecărei ramuri există o structură numită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inaps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care procesează semnalul transmis prin axon, transformându-l într-un efect electric care controlează transmisia 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ăt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r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ătoru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eur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eţele neuronale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6172200" cy="32288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2362320" y="3505320"/>
            <a:ext cx="6781680" cy="33526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149400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Spre deosebire de ma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ş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inile von Neumann, unde exis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ă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o unitate de procesare ce execu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ă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instruc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ţ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iunile din memorie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î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n mod secven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ţ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ial (numai o instruc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ţ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iune la un moment dat), r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ţ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elele neuronale utilizeaz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ă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masiv paralelismu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Fiind modele simplificate ale creierului uman, ele d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ţ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in capacitatea de a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î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nv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ă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ţ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a, spre deosebire de calculatoarele clasice, care r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ă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â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n totu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ş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i mai eficiente c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â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nd vine vorba de calcule aritmetice, preci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Î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n mod ideal, r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ţ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ua devine mai “inteligen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ă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” dup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ă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fiecare itera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ţ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ie a procesului de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î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nv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ă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ţ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a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ţele neurona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</a:t>
            </a: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ţele McCulloch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Pitt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(194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-360" y="1218960"/>
            <a:ext cx="47242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area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în calculator se realizează prin porţi logice, fundamentate de Warren Sturgis McCulloch şi Walter Pit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De fiecare dată când primeşte o activare (valoarea 1 la intrare), reţeaua calculează ieşirea pe baza ponderilor de pe arce şi a pragului indicat. O poartă acceptă unul sau mai multe semnale logice de intrare şi produce un semnal de ieşire conform unei funcţii logice de bază a intrărilor (tabel de adevăr)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724280" y="1541520"/>
            <a:ext cx="4419720" cy="42498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7391520" y="1523880"/>
            <a:ext cx="0" cy="4114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 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î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nv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ăţ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ua neuron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ai prezi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va caracteristici importan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generaliza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u fost instruite corespun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r, 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le sunt capabile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a 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unsuri corect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ş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pentru int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 ase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ănătoa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elor pentru care au fost instruit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intez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pot lua decizii sau trage concluzii da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unt confruntate cu inform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 afectate de zgomot, irelevante sau p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a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erceptronu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ste bazat pe interconectarea unei mu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i de neuroni artificiali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ş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reprezi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imul model de 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 neuron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tifici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ă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ţele neurona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9999"/>
                </a:solidFill>
                <a:latin typeface="Arial"/>
              </a:rPr>
              <a:t>Perceptronu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33520" y="1371600"/>
            <a:ext cx="8153280" cy="49528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12654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Un n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ă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r de </a:t>
            </a:r>
            <a:r>
              <a:rPr b="0" lang="ro-RO" sz="2800" spc="-1" strike="noStrike">
                <a:solidFill>
                  <a:srgbClr val="ff0000"/>
                </a:solidFill>
                <a:latin typeface="Arial"/>
              </a:rPr>
              <a:t>intr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ă</a:t>
            </a:r>
            <a:r>
              <a:rPr b="0" lang="ro-RO" sz="2800" spc="-1" strike="noStrike">
                <a:solidFill>
                  <a:srgbClr val="ff0000"/>
                </a:solidFill>
                <a:latin typeface="Arial"/>
              </a:rPr>
              <a:t>ri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(conexiuni sinaptice), fiecare car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teriza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ă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de o </a:t>
            </a:r>
            <a:r>
              <a:rPr b="0" lang="ro-RO" sz="2800" spc="-1" strike="noStrike">
                <a:solidFill>
                  <a:srgbClr val="ff0000"/>
                </a:solidFill>
                <a:latin typeface="Arial"/>
              </a:rPr>
              <a:t>pondere sinaptic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ă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Un </a:t>
            </a:r>
            <a:r>
              <a:rPr b="0" lang="ro-RO" sz="2800" spc="-1" strike="noStrike">
                <a:solidFill>
                  <a:srgbClr val="ff0000"/>
                </a:solidFill>
                <a:latin typeface="Arial"/>
              </a:rPr>
              <a:t>sumator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care efectueaz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ă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o combin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ţ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ie linia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ă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a int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ă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rilo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ro-RO" sz="2800" spc="-1" strike="noStrike">
                <a:solidFill>
                  <a:srgbClr val="ff0000"/>
                </a:solidFill>
                <a:latin typeface="Arial"/>
              </a:rPr>
              <a:t>ie</a:t>
            </a:r>
            <a:r>
              <a:rPr b="0" lang="ro-RO" sz="2800" spc="-1" strike="noStrike">
                <a:solidFill>
                  <a:srgbClr val="ff0000"/>
                </a:solidFill>
                <a:latin typeface="Arial"/>
                <a:ea typeface="Arial"/>
              </a:rPr>
              <a:t>ş</a:t>
            </a:r>
            <a:r>
              <a:rPr b="0" lang="ro-RO" sz="2800" spc="-1" strike="noStrike">
                <a:solidFill>
                  <a:srgbClr val="ff0000"/>
                </a:solidFill>
                <a:latin typeface="Arial"/>
              </a:rPr>
              <a:t>ire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caracteriza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ă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de prez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ţ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a unei </a:t>
            </a:r>
            <a:r>
              <a:rPr b="0" lang="ro-RO" sz="2800" spc="-1" strike="noStrike">
                <a:solidFill>
                  <a:srgbClr val="ff0000"/>
                </a:solidFill>
                <a:latin typeface="Arial"/>
              </a:rPr>
              <a:t>func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ţ</a:t>
            </a:r>
            <a:r>
              <a:rPr b="0" lang="ro-RO" sz="2800" spc="-1" strike="noStrike">
                <a:solidFill>
                  <a:srgbClr val="ff0000"/>
                </a:solidFill>
                <a:latin typeface="Arial"/>
              </a:rPr>
              <a:t>ii de activar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ş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i a unui </a:t>
            </a:r>
            <a:r>
              <a:rPr b="0" lang="ro-RO" sz="2800" spc="-1" strike="noStrike">
                <a:solidFill>
                  <a:srgbClr val="ff0000"/>
                </a:solidFill>
                <a:latin typeface="Arial"/>
              </a:rPr>
              <a:t>prag.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Neuronul biologic se activeaz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ă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(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ă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un semnal la i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ş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ire) numai da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ă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semnalul de intrare de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ăş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ş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te un anumit prag. Da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ă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semnalul de intrare de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ă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ş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ş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te valoare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prag, atunci i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ş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irea va fi 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în caz contrar i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ş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irea fiind 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ţele neurona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stem form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655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Un sistem formal se poate formula pur abstract, sau poate fi o descriere a unui fenomen real, a unui aspect al realităţii obiecti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ex: geometria sintetică (noţiuni primare, axiom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In matematică, demonstraţiile sunt realizate în sisteme formale. Teorema este “ultimul rând” al unei demonstraţi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99"/>
                </a:solidFill>
                <a:latin typeface="Arial"/>
              </a:rPr>
              <a:t>ex: Într-un triunghi isoscel, unghiurile opuse laturilor congruente sunt congruent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avid Hilbert (1862-1943) a fondat </a:t>
            </a:r>
            <a:r>
              <a:rPr b="0" lang="ro-RO" sz="2000" spc="-1" strike="noStrike">
                <a:solidFill>
                  <a:srgbClr val="ff0000"/>
                </a:solidFill>
                <a:latin typeface="Arial"/>
              </a:rPr>
              <a:t>metamatematica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- disciplina care se ocupă de sistemele formale. Limbajul formal examinat este limbajul </a:t>
            </a:r>
            <a:r>
              <a:rPr b="0" lang="ro-RO" sz="2000" spc="-1" strike="noStrike">
                <a:solidFill>
                  <a:srgbClr val="ff0000"/>
                </a:solidFill>
                <a:latin typeface="Arial"/>
              </a:rPr>
              <a:t>obiect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. Limbajul în care acesta este discutat este </a:t>
            </a:r>
            <a:r>
              <a:rPr b="0" lang="ro-RO" sz="2000" spc="-1" strike="noStrike">
                <a:solidFill>
                  <a:srgbClr val="ff0000"/>
                </a:solidFill>
                <a:latin typeface="Arial"/>
              </a:rPr>
              <a:t>metalimbajul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. Metalimbajul este (de obicei) mai puţin formalizat decât limbajul obiec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994440" y="0"/>
            <a:ext cx="2149560" cy="29257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log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N biologică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N artificial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a (corpul celulei)             Neur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ndrite                                 Int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xon                                       I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ş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ri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apsa                                  Ponder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</a:t>
            </a: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ţele McCulloch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Pitt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(194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Valorile pentru ponderi şi praguri nu sunt un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Valorile sunt separabile în plan (prin dreapta L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Se pot utiliza mai multe porţi (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neuroni artificial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pentru a reprezenta diverse expresii logi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4495680" y="1241280"/>
            <a:ext cx="4648320" cy="265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0" name=""/>
          <p:cNvGraphicFramePr/>
          <p:nvPr/>
        </p:nvGraphicFramePr>
        <p:xfrm>
          <a:off x="4495680" y="4065480"/>
          <a:ext cx="4648320" cy="2716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95680" y="4065480"/>
                    <a:ext cx="4648320" cy="271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"/>
          <p:cNvSpPr/>
          <p:nvPr/>
        </p:nvSpPr>
        <p:spPr>
          <a:xfrm>
            <a:off x="5029200" y="5867280"/>
            <a:ext cx="12193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</a:t>
            </a: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ţele McCulloch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Pitt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(194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4. Când valorile sunt separabil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 un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hiperpla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în </a:t>
            </a:r>
            <a:r>
              <a:rPr b="0" lang="ro-RO" sz="2800" spc="-1" strike="noStrike">
                <a:solidFill>
                  <a:srgbClr val="000099"/>
                </a:solidFill>
                <a:latin typeface="Arial"/>
              </a:rPr>
              <a:t>hiperspaţiu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, expresia se poate reprezenta pr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-un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at de </a:t>
            </a:r>
            <a:r>
              <a:rPr b="0" lang="ro-RO" sz="2800" spc="-1" strike="noStrike">
                <a:solidFill>
                  <a:srgbClr val="000099"/>
                </a:solidFill>
                <a:latin typeface="Arial"/>
              </a:rPr>
              <a:t>perceptron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(un strat de neuron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tificiali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5334120" y="1295280"/>
            <a:ext cx="3809880" cy="34290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</a:t>
            </a: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ţele McCulloch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Pitt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(194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4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d este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necesară o </a:t>
            </a:r>
            <a:r>
              <a:rPr b="0" lang="ro-RO" sz="2400" spc="-1" strike="noStrike">
                <a:solidFill>
                  <a:srgbClr val="000099"/>
                </a:solidFill>
                <a:latin typeface="Arial"/>
              </a:rPr>
              <a:t>reţea neuronală cu mai multe straturi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ş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ile din fiecare strat reprezint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tr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le pentru stratul urm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r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4648320" y="1371600"/>
          <a:ext cx="4232160" cy="254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371600"/>
                    <a:ext cx="4232160" cy="25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4724280" y="4200480"/>
            <a:ext cx="4419720" cy="26575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</a:t>
            </a: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ţele McCulloch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Pitt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(194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80880" y="480024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Reţea cu 2 straturi pentru SAU EXCLUSI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applet demonstrativ la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http://lcn.epfl.ch/tutorial/english/aneuron/html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ro-RO" sz="1400" spc="-1" strike="noStrike">
                <a:solidFill>
                  <a:srgbClr val="000099"/>
                </a:solidFill>
                <a:latin typeface="Arial"/>
              </a:rPr>
              <a:t>(trebuie instalat Java Virtual Mach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523880" y="1676520"/>
            <a:ext cx="5486400" cy="25146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zvoltarea actuală a L.C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Revista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ACM Transactions of Computational Logic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consideră următoarele subdomenii ale 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304920" y="2481120"/>
          <a:ext cx="8686800" cy="4291200"/>
        </p:xfrm>
        <a:graphic>
          <a:graphicData uri="http://schemas.openxmlformats.org/drawingml/2006/table">
            <a:tbl>
              <a:tblPr/>
              <a:tblGrid>
                <a:gridCol w="4343400"/>
                <a:gridCol w="4343400"/>
              </a:tblGrid>
              <a:tr h="432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pecte logice în inteligenţă artificial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pecte logice în complexitatea computaţional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pecte logice în sisteme de baze de d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tomate şi logici tempora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cul concurent</a:t>
                      </a: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lexitatea teoriilor log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ducţie automat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ducţie nonmonoton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zvoltarea programelor</a:t>
                      </a: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mbaje de programar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gica incertitudini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gici modale</a:t>
                      </a: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are funcţională şi </a:t>
                      </a: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λ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c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gramare logic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gramare logică inductivă şi învăţare automat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area constrângeril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ificare software automată</a:t>
                      </a: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Verificarea modelel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ecificarea programel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steme de rescrie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oria modelului finit</a:t>
                      </a: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oria tipurilor şi cadre log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wipe dir="d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m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70102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ds, I win. Tails, you los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e that I always w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There are three suspects for a murder: Adams, Brown, and Clark. Adams says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I didn't do it. The victim was old acquaintance of Brown's. But Clark hated him.” Brown states “I didn't do it. I didn't know the guy. Besides I was out of town all the week.” Clark says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I didn't do it. I saw both Adams and Brown downtown with the victim that day; one of them must have done it.” Assume that the two innocent men are telling the truth, but that the guilty man might not be. Solve the cr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99"/>
                </a:solidFill>
                <a:latin typeface="Arial"/>
              </a:rPr>
              <a:t>Preluare din </a:t>
            </a:r>
            <a:r>
              <a:rPr b="1" lang="ro-RO" sz="1600" spc="-1" strike="noStrike">
                <a:solidFill>
                  <a:srgbClr val="000099"/>
                </a:solidFill>
                <a:latin typeface="Arial"/>
              </a:rPr>
              <a:t>CS157: Computational Logic Course</a:t>
            </a:r>
            <a:r>
              <a:rPr b="0" lang="ro-RO" sz="1600" spc="-1" strike="noStrike">
                <a:solidFill>
                  <a:srgbClr val="000099"/>
                </a:solidFill>
                <a:latin typeface="Arial"/>
              </a:rPr>
              <a:t>, Stanford Univesity,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http://logic.stanford.edu/classes/cs157/2005fall/cs157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7097760" y="0"/>
            <a:ext cx="2046240" cy="277956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te proble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Scrieţi o demonstraţie a faptului că (q→t) este o consecinţă a premiselor din {(q→(p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r)), (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~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s→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~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p), ((p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s)→t)}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rie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ţi variantele corec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Stăm de vorbă cu Florin, de 19 ani student în anul 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Teorema de convergenţă uniformă a lui Weierstrass arată că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Sunt în raiul produselor din carne Faco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Arătaţi că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Monotype Corsiva"/>
              </a:rPr>
              <a:t>,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B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)}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├ (</a:t>
            </a: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B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Arătaţi că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├ (</a:t>
            </a: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Monotype Corsiva"/>
              </a:rPr>
              <a:t>,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(Regula silogismulu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{(</a:t>
            </a:r>
            <a:r>
              <a:rPr b="0" lang="ro-RO" sz="18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ro-RO" sz="1800" spc="-1" strike="noStrike">
                <a:solidFill>
                  <a:srgbClr val="000000"/>
                </a:solidFill>
                <a:latin typeface="Monotype Corsiva"/>
              </a:rPr>
              <a:t>B),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o-RO" sz="1800" spc="-1" strike="noStrike">
                <a:solidFill>
                  <a:srgbClr val="000000"/>
                </a:solidFill>
                <a:latin typeface="Monotype Corsiva"/>
              </a:rPr>
              <a:t>B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ro-RO" sz="1800" spc="-1" strike="noStrike">
                <a:solidFill>
                  <a:srgbClr val="000000"/>
                </a:solidFill>
                <a:latin typeface="Monotype Corsiva"/>
              </a:rPr>
              <a:t>C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)}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├ (</a:t>
            </a:r>
            <a:r>
              <a:rPr b="0" lang="ro-RO" sz="18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ro-RO" sz="1800" spc="-1" strike="noStrike">
                <a:solidFill>
                  <a:srgbClr val="000000"/>
                </a:solidFill>
                <a:latin typeface="Monotype Corsiva"/>
              </a:rPr>
              <a:t>C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Maşinile nu pot fi inteligente; ele fac doar ce sunt programate să facă.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o-RO" sz="1600" spc="-1" strike="noStrike">
                <a:solidFill>
                  <a:srgbClr val="ff0000"/>
                </a:solidFill>
                <a:latin typeface="Arial"/>
                <a:ea typeface="Arial"/>
              </a:rPr>
              <a:t>ADEVĂRAT? DE CE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ro-RO" sz="16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“Maşinile nu pot fi inteligente.” → “Maşinile fac doar ce sunt programate să facă.”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o-RO" sz="1600" spc="-1" strike="noStrike">
                <a:solidFill>
                  <a:srgbClr val="ff0000"/>
                </a:solidFill>
                <a:latin typeface="Arial"/>
                <a:ea typeface="Arial"/>
              </a:rPr>
              <a:t>Este o propoziţie adevărată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Ce rezultă la activarea reţele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  <a:ea typeface="Arial"/>
              </a:rPr>
              <a:t>(Întărirea axiomel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5486400" y="4952880"/>
            <a:ext cx="2712960" cy="11113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1143000" y="5638680"/>
            <a:ext cx="3287880" cy="3700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icat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Arătaţi că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B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)}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├ (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B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B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→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B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(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B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 A)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(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B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 A)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B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B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icat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Arătaţi că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├ (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(A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)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(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)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(A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(A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)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(Regula silogismulu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{(</a:t>
            </a:r>
            <a:r>
              <a:rPr b="0" lang="ro-RO" sz="28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ro-RO" sz="2800" spc="-1" strike="noStrike">
                <a:solidFill>
                  <a:srgbClr val="000000"/>
                </a:solidFill>
                <a:latin typeface="Monotype Corsiva"/>
              </a:rPr>
              <a:t>B),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o-RO" sz="2800" spc="-1" strike="noStrike">
                <a:solidFill>
                  <a:srgbClr val="000000"/>
                </a:solidFill>
                <a:latin typeface="Monotype Corsiva"/>
              </a:rPr>
              <a:t>B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ro-RO" sz="2800" spc="-1" strike="noStrike">
                <a:solidFill>
                  <a:srgbClr val="000000"/>
                </a:solidFill>
                <a:latin typeface="Monotype Corsiva"/>
              </a:rPr>
              <a:t>C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)}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├ (</a:t>
            </a:r>
            <a:r>
              <a:rPr b="0" lang="ro-RO" sz="28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ro-RO" sz="2800" spc="-1" strike="noStrike">
                <a:solidFill>
                  <a:srgbClr val="000000"/>
                </a:solidFill>
                <a:latin typeface="Monotype Corsiva"/>
              </a:rPr>
              <a:t>C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ţia sistemului form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L, </a:t>
            </a:r>
            <a:r>
              <a:rPr b="0" lang="ro-RO" sz="3200" spc="-1" strike="noStrike">
                <a:solidFill>
                  <a:srgbClr val="ff0000"/>
                </a:solidFill>
                <a:latin typeface="Arial"/>
              </a:rPr>
              <a:t>sistemul formal al calculului propoziţional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alfabet </a:t>
            </a:r>
            <a:r>
              <a:rPr b="0" lang="ro-RO" sz="2400" spc="-1" strike="noStrike">
                <a:solidFill>
                  <a:srgbClr val="009999"/>
                </a:solidFill>
                <a:latin typeface="Arial"/>
              </a:rPr>
              <a:t>infinit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de </a:t>
            </a:r>
            <a:r>
              <a:rPr b="0" lang="ro-RO" sz="2400" spc="-1" strike="noStrike">
                <a:solidFill>
                  <a:srgbClr val="ff0000"/>
                </a:solidFill>
                <a:latin typeface="Arial"/>
              </a:rPr>
              <a:t>simboluri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0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~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 ( ) p</a:t>
            </a:r>
            <a:r>
              <a:rPr b="0" lang="ro-RO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ro-RO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mulţimea </a:t>
            </a:r>
            <a:r>
              <a:rPr b="0" lang="ro-RO" sz="2400" spc="-1" strike="noStrike">
                <a:solidFill>
                  <a:srgbClr val="ff0000"/>
                </a:solidFill>
                <a:latin typeface="Arial"/>
              </a:rPr>
              <a:t>formulelor bine-formate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(fbf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35000" indent="-577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ro-RO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 este fbf, pentru orice i≥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35000" indent="-577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dacă </a:t>
            </a:r>
            <a:r>
              <a:rPr b="1" lang="ro-RO" sz="24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en-US" sz="2400" spc="-1" strike="noStrike">
                <a:solidFill>
                  <a:srgbClr val="000000"/>
                </a:solidFill>
                <a:latin typeface="Monotype Corsiva"/>
                <a:ea typeface="Arial"/>
              </a:rPr>
              <a:t>B</a:t>
            </a:r>
            <a:r>
              <a:rPr b="1" lang="ro-RO" sz="2000" spc="-1" strike="noStrike">
                <a:solidFill>
                  <a:srgbClr val="000000"/>
                </a:solidFill>
                <a:latin typeface="Monotype Corsiva"/>
                <a:ea typeface="Arial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sunt fbf, atunci</a:t>
            </a:r>
            <a:r>
              <a:rPr b="1" lang="ro-RO" sz="2000" spc="-1" strike="noStrike">
                <a:solidFill>
                  <a:srgbClr val="000000"/>
                </a:solidFill>
                <a:latin typeface="Monotype Corsiva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~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ro-RO" sz="24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) şi (</a:t>
            </a:r>
            <a:r>
              <a:rPr b="1" lang="ro-RO" sz="24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Monotype Corsiva"/>
                <a:ea typeface="Arial"/>
              </a:rPr>
              <a:t>→</a:t>
            </a:r>
            <a:r>
              <a:rPr b="1" lang="en-US" sz="2400" spc="-1" strike="noStrike">
                <a:solidFill>
                  <a:srgbClr val="000000"/>
                </a:solidFill>
                <a:latin typeface="Monotype Corsiva"/>
                <a:ea typeface="Arial"/>
              </a:rPr>
              <a:t>B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sunt fb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35000" indent="-577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toate fbf se generează prin i. , i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mulţime </a:t>
            </a:r>
            <a:r>
              <a:rPr b="0" lang="ro-RO" sz="2400" spc="-1" strike="noStrike">
                <a:solidFill>
                  <a:srgbClr val="009999"/>
                </a:solidFill>
                <a:latin typeface="Arial"/>
              </a:rPr>
              <a:t>infinită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de </a:t>
            </a:r>
            <a:r>
              <a:rPr b="0" lang="ro-RO" sz="2400" spc="-1" strike="noStrike">
                <a:solidFill>
                  <a:srgbClr val="ff0000"/>
                </a:solidFill>
                <a:latin typeface="Arial"/>
              </a:rPr>
              <a:t>axiome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0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(L1) (</a:t>
            </a:r>
            <a:r>
              <a:rPr b="1" lang="ro-RO" sz="24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Monotype Corsiva"/>
                <a:ea typeface="Arial"/>
              </a:rPr>
              <a:t>→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Monotype Corsiva"/>
                <a:ea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Monotype Corsiva"/>
                <a:ea typeface="Arial"/>
              </a:rPr>
              <a:t>→</a:t>
            </a:r>
            <a:r>
              <a:rPr b="1" lang="ro-RO" sz="24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60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(L2) ((</a:t>
            </a:r>
            <a:r>
              <a:rPr b="1" lang="ro-RO" sz="24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Monotype Corsiva"/>
                <a:ea typeface="Arial"/>
              </a:rPr>
              <a:t>→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Monotype Corsiva"/>
                <a:ea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Monotype Corsiva"/>
                <a:ea typeface="Arial"/>
              </a:rPr>
              <a:t>→</a:t>
            </a:r>
            <a:r>
              <a:rPr b="1" lang="ro-RO" sz="2400" spc="-1" strike="noStrike">
                <a:solidFill>
                  <a:srgbClr val="000000"/>
                </a:solidFill>
                <a:latin typeface="Monotype Corsiva"/>
              </a:rPr>
              <a:t>C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Monotype Corsiva"/>
                <a:ea typeface="Arial"/>
              </a:rPr>
              <a:t>→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o-RO" sz="2400" spc="-1" strike="noStrike">
                <a:solidFill>
                  <a:srgbClr val="000000"/>
                </a:solidFill>
                <a:latin typeface="Monotype Corsiva"/>
              </a:rPr>
              <a:t>A </a:t>
            </a:r>
            <a:r>
              <a:rPr b="0" lang="en-US" sz="2000" spc="-1" strike="noStrike">
                <a:solidFill>
                  <a:srgbClr val="000000"/>
                </a:solidFill>
                <a:latin typeface="Monotype Corsiva"/>
                <a:ea typeface="Arial"/>
              </a:rPr>
              <a:t>→</a:t>
            </a:r>
            <a:r>
              <a:rPr b="1" lang="en-US" sz="2400" spc="-1" strike="noStrike">
                <a:solidFill>
                  <a:srgbClr val="000000"/>
                </a:solidFill>
                <a:latin typeface="Monotype Corsiva"/>
                <a:ea typeface="Arial"/>
              </a:rPr>
              <a:t>B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Monotype Corsiva"/>
                <a:ea typeface="Arial"/>
              </a:rPr>
              <a:t>→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ro-RO" sz="2400" spc="-1" strike="noStrike">
                <a:solidFill>
                  <a:srgbClr val="000000"/>
                </a:solidFill>
                <a:latin typeface="Monotype Corsiva"/>
                <a:ea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Monotype Corsiva"/>
                <a:ea typeface="Arial"/>
              </a:rPr>
              <a:t>→</a:t>
            </a:r>
            <a:r>
              <a:rPr b="1" lang="ro-RO" sz="2400" spc="-1" strike="noStrike">
                <a:solidFill>
                  <a:srgbClr val="000000"/>
                </a:solidFill>
                <a:latin typeface="Monotype Corsiva"/>
              </a:rPr>
              <a:t>C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60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(L3)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~</a:t>
            </a:r>
            <a:r>
              <a:rPr b="1" lang="ro-RO" sz="24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Monotype Corsiva"/>
                <a:ea typeface="Arial"/>
              </a:rPr>
              <a:t>→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Monotype Corsiva"/>
                <a:ea typeface="Arial"/>
              </a:rPr>
              <a:t>B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))</a:t>
            </a:r>
            <a:r>
              <a:rPr b="0" lang="en-US" sz="2000" spc="-1" strike="noStrike">
                <a:solidFill>
                  <a:srgbClr val="000000"/>
                </a:solidFill>
                <a:latin typeface="Monotype Corsiva"/>
                <a:ea typeface="Arial"/>
              </a:rPr>
              <a:t>→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Monotype Corsiva"/>
                <a:ea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Monotype Corsiva"/>
                <a:ea typeface="Arial"/>
              </a:rPr>
              <a:t>→</a:t>
            </a:r>
            <a:r>
              <a:rPr b="1" lang="ro-RO" sz="24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regula de </a:t>
            </a:r>
            <a:r>
              <a:rPr b="0" lang="ro-RO" sz="2400" spc="-1" strike="noStrike">
                <a:solidFill>
                  <a:srgbClr val="ff0000"/>
                </a:solidFill>
                <a:latin typeface="Arial"/>
              </a:rPr>
              <a:t>deducţie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99"/>
                </a:solidFill>
                <a:latin typeface="Arial"/>
              </a:rPr>
              <a:t>Modus Ponens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(M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0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Corsiva"/>
                <a:ea typeface="Arial"/>
              </a:rPr>
              <a:t>B</a:t>
            </a:r>
            <a:r>
              <a:rPr b="1" lang="ro-RO" sz="2400" spc="-1" strike="noStrike">
                <a:solidFill>
                  <a:srgbClr val="000000"/>
                </a:solidFill>
                <a:latin typeface="Monotype Corsiva"/>
                <a:ea typeface="Arial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este o consecinţă directă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in </a:t>
            </a:r>
            <a:r>
              <a:rPr b="1" lang="ro-RO" sz="24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şi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o-RO" sz="24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  <a:ea typeface="Arial"/>
              </a:rPr>
              <a:t>→</a:t>
            </a:r>
            <a:r>
              <a:rPr b="1" lang="en-US" sz="2400" spc="-1" strike="noStrike">
                <a:solidFill>
                  <a:srgbClr val="000000"/>
                </a:solidFill>
                <a:latin typeface="Monotype Corsiva"/>
                <a:ea typeface="Arial"/>
              </a:rPr>
              <a:t>B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icat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5.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(Regula silogismului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{(</a:t>
            </a:r>
            <a:r>
              <a:rPr b="0" lang="ro-RO" sz="28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ro-RO" sz="2800" spc="-1" strike="noStrike">
                <a:solidFill>
                  <a:srgbClr val="000000"/>
                </a:solidFill>
                <a:latin typeface="Monotype Corsiva"/>
              </a:rPr>
              <a:t>B),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o-RO" sz="2800" spc="-1" strike="noStrike">
                <a:solidFill>
                  <a:srgbClr val="000000"/>
                </a:solidFill>
                <a:latin typeface="Monotype Corsiva"/>
              </a:rPr>
              <a:t>B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ro-RO" sz="2800" spc="-1" strike="noStrike">
                <a:solidFill>
                  <a:srgbClr val="000000"/>
                </a:solidFill>
                <a:latin typeface="Monotype Corsiva"/>
              </a:rPr>
              <a:t>C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)}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├ (</a:t>
            </a:r>
            <a:r>
              <a:rPr b="0" lang="ro-RO" sz="28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ro-RO" sz="2800" spc="-1" strike="noStrike">
                <a:solidFill>
                  <a:srgbClr val="000000"/>
                </a:solidFill>
                <a:latin typeface="Monotype Corsiva"/>
              </a:rPr>
              <a:t>C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n T. deductiei, este echivalent cu a arata c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{(</a:t>
            </a:r>
            <a:r>
              <a:rPr b="0" lang="ro-RO" sz="28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ro-RO" sz="2800" spc="-1" strike="noStrike">
                <a:solidFill>
                  <a:srgbClr val="000000"/>
                </a:solidFill>
                <a:latin typeface="Monotype Corsiva"/>
              </a:rPr>
              <a:t>B),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o-RO" sz="2800" spc="-1" strike="noStrike">
                <a:solidFill>
                  <a:srgbClr val="000000"/>
                </a:solidFill>
                <a:latin typeface="Monotype Corsiva"/>
              </a:rPr>
              <a:t>B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ro-RO" sz="2800" spc="-1" strike="noStrike">
                <a:solidFill>
                  <a:srgbClr val="000000"/>
                </a:solidFill>
                <a:latin typeface="Monotype Corsiva"/>
              </a:rPr>
              <a:t>C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o-RO" sz="28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├ </a:t>
            </a:r>
            <a:r>
              <a:rPr b="0" lang="ro-RO" sz="2800" spc="-1" strike="noStrike">
                <a:solidFill>
                  <a:srgbClr val="000000"/>
                </a:solidFill>
                <a:latin typeface="Monotype Corsiva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ro-RO" sz="2800" spc="-1" strike="noStrike">
                <a:solidFill>
                  <a:srgbClr val="000000"/>
                </a:solidFill>
                <a:latin typeface="Monotype Corsiv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Monotype Corsiva"/>
              </a:rPr>
              <a:t>B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ro-RO" sz="2800" spc="-1" strike="noStrike">
                <a:solidFill>
                  <a:srgbClr val="000000"/>
                </a:solidFill>
                <a:latin typeface="Monotype Corsiva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Monotype Corsiva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Monotype Corsiv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Monotype Corsiva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1494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Logica propoziţiilor, la fel ca alte sisteme matematice, poate fi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al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iza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ă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devenind un sistem forma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Un </a:t>
            </a:r>
            <a:r>
              <a:rPr b="0" lang="ro-RO" sz="2800" spc="-1" strike="noStrike">
                <a:solidFill>
                  <a:srgbClr val="ff0000"/>
                </a:solidFill>
                <a:latin typeface="Arial"/>
              </a:rPr>
              <a:t>sistem formal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este compus dintr-un alfabet, o sintax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ă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, o mulţime de axiome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ş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i reguli de deducţie. Regula de deducţi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î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n sistemul formal al calculului propoziţional este </a:t>
            </a:r>
            <a:r>
              <a:rPr b="0" lang="ro-RO" sz="2800" spc="-1" strike="noStrike">
                <a:solidFill>
                  <a:srgbClr val="ff0000"/>
                </a:solidFill>
                <a:latin typeface="Arial"/>
              </a:rPr>
              <a:t>modus ponens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((p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q))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q). Adic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ă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, dac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ă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enunţurile p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ş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i p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q sunt adev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ă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rate, atunci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ş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i q este adev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ă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rat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u,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dac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ă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ş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i A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B sunt tautologii atunci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ş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i B este tautologi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ţia sistemului form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ica propozi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ţional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Teoria deduc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ţ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iei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este acea parte a logicii folosi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ă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ca punct de plecare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î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n capitolele de demostrare automata a teoremelor din IA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ş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i SE.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Î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n IA ne intereseaz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ă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ca programele s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ă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deduc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ă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î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n mod automat noi fapte adev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ă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r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Logica Propozi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ţ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ional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ă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ne permite s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ă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abor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ă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m rela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ţ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iile dintre propozi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ţ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ii si s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ă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cr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ă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m un mecanism pentru derivarea logic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ă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a concluziilor, mecanism bazat pe aceste rela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ţ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i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stem form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  <a:ea typeface="Arial"/>
              </a:rPr>
              <a:t>O </a:t>
            </a:r>
            <a:r>
              <a:rPr b="0" lang="ro-RO" sz="3200" spc="-1" strike="noStrike">
                <a:solidFill>
                  <a:srgbClr val="ff0000"/>
                </a:solidFill>
                <a:latin typeface="Arial"/>
                <a:ea typeface="Arial"/>
              </a:rPr>
              <a:t>demonstraţie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  <a:ea typeface="Arial"/>
              </a:rPr>
              <a:t> în L este o secvenţă de fbf </a:t>
            </a:r>
            <a:r>
              <a:rPr b="1" lang="ro-RO" sz="32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1" lang="ro-RO" sz="3200" spc="-1" strike="noStrike" baseline="-25000">
                <a:solidFill>
                  <a:srgbClr val="000000"/>
                </a:solidFill>
                <a:latin typeface="Monotype Corsiva"/>
              </a:rPr>
              <a:t>1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, …,  </a:t>
            </a:r>
            <a:r>
              <a:rPr b="1" lang="ro-RO" sz="32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1" lang="ro-RO" sz="3200" spc="-1" strike="noStrike" baseline="-25000">
                <a:solidFill>
                  <a:srgbClr val="000000"/>
                </a:solidFill>
                <a:latin typeface="Monotype Corsiva"/>
              </a:rPr>
              <a:t>n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astfel încâ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32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1" lang="ro-RO" sz="3200" spc="-1" strike="noStrike" baseline="-25000">
                <a:solidFill>
                  <a:srgbClr val="000000"/>
                </a:solidFill>
                <a:latin typeface="Monotype Corsiva"/>
              </a:rPr>
              <a:t>i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 este o axiomă sa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32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1" lang="ro-RO" sz="3200" spc="-1" strike="noStrike" baseline="-25000">
                <a:solidFill>
                  <a:srgbClr val="000000"/>
                </a:solidFill>
                <a:latin typeface="Monotype Corsiva"/>
              </a:rPr>
              <a:t>i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se obţine din </a:t>
            </a:r>
            <a:r>
              <a:rPr b="1" lang="ro-RO" sz="32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Monotype Corsiva"/>
              </a:rPr>
              <a:t>j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ro-RO" sz="32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Monotype Corsiva"/>
              </a:rPr>
              <a:t>k </a:t>
            </a:r>
            <a:r>
              <a:rPr b="1" lang="ro-RO" sz="3200" spc="-1" strike="noStrike" baseline="-25000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prin MP (j,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i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Spunem că secvenţa </a:t>
            </a:r>
            <a:r>
              <a:rPr b="1" lang="ro-RO" sz="32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1" lang="ro-RO" sz="3200" spc="-1" strike="noStrike" baseline="-25000">
                <a:solidFill>
                  <a:srgbClr val="000000"/>
                </a:solidFill>
                <a:latin typeface="Monotype Corsiva"/>
              </a:rPr>
              <a:t>1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, …,  </a:t>
            </a:r>
            <a:r>
              <a:rPr b="1" lang="ro-RO" sz="32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1" lang="ro-RO" sz="3200" spc="-1" strike="noStrike" baseline="-25000">
                <a:solidFill>
                  <a:srgbClr val="000000"/>
                </a:solidFill>
                <a:latin typeface="Monotype Corsiva"/>
              </a:rPr>
              <a:t>n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este o demonstraţie </a:t>
            </a:r>
            <a:r>
              <a:rPr b="0" lang="ro-RO" sz="3200" spc="-1" strike="noStrike">
                <a:solidFill>
                  <a:srgbClr val="ff0000"/>
                </a:solidFill>
                <a:latin typeface="Arial"/>
              </a:rPr>
              <a:t>a lui </a:t>
            </a:r>
            <a:r>
              <a:rPr b="1" lang="ro-RO" sz="3200" spc="-1" strike="noStrike">
                <a:solidFill>
                  <a:srgbClr val="ff0000"/>
                </a:solidFill>
                <a:latin typeface="Monotype Corsiva"/>
              </a:rPr>
              <a:t>A</a:t>
            </a:r>
            <a:r>
              <a:rPr b="1" lang="ro-RO" sz="3200" spc="-1" strike="noStrike" baseline="-25000">
                <a:solidFill>
                  <a:srgbClr val="ff0000"/>
                </a:solidFill>
                <a:latin typeface="Monotype Corsiva"/>
              </a:rPr>
              <a:t>n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şi că </a:t>
            </a:r>
            <a:r>
              <a:rPr b="1" lang="ro-RO" sz="32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1" lang="ro-RO" sz="3200" spc="-1" strike="noStrike" baseline="-25000">
                <a:solidFill>
                  <a:srgbClr val="000000"/>
                </a:solidFill>
                <a:latin typeface="Monotype Corsiva"/>
              </a:rPr>
              <a:t>n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este o </a:t>
            </a:r>
            <a:r>
              <a:rPr b="0" lang="ro-RO" sz="3200" spc="-1" strike="noStrike">
                <a:solidFill>
                  <a:srgbClr val="ff0000"/>
                </a:solidFill>
                <a:latin typeface="Arial"/>
              </a:rPr>
              <a:t>teoremă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în 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dddddd"/>
                </a:solidFill>
                <a:latin typeface="Arial"/>
              </a:rPr>
              <a:t>Ob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dddddd"/>
                </a:solidFill>
                <a:latin typeface="Arial"/>
              </a:rPr>
              <a:t>1. Dacă </a:t>
            </a:r>
            <a:r>
              <a:rPr b="1" lang="ro-RO" sz="2400" spc="-1" strike="noStrike">
                <a:solidFill>
                  <a:srgbClr val="dddddd"/>
                </a:solidFill>
                <a:latin typeface="Monotype Corsiva"/>
              </a:rPr>
              <a:t>A</a:t>
            </a:r>
            <a:r>
              <a:rPr b="1" lang="ro-RO" sz="2400" spc="-1" strike="noStrike" baseline="-25000">
                <a:solidFill>
                  <a:srgbClr val="dddddd"/>
                </a:solidFill>
                <a:latin typeface="Monotype Corsiva"/>
              </a:rPr>
              <a:t>1</a:t>
            </a:r>
            <a:r>
              <a:rPr b="0" lang="ro-RO" sz="2400" spc="-1" strike="noStrike">
                <a:solidFill>
                  <a:srgbClr val="dddddd"/>
                </a:solidFill>
                <a:latin typeface="Arial"/>
              </a:rPr>
              <a:t> , …,  </a:t>
            </a:r>
            <a:r>
              <a:rPr b="1" lang="ro-RO" sz="2400" spc="-1" strike="noStrike">
                <a:solidFill>
                  <a:srgbClr val="dddddd"/>
                </a:solidFill>
                <a:latin typeface="Monotype Corsiva"/>
              </a:rPr>
              <a:t>A</a:t>
            </a:r>
            <a:r>
              <a:rPr b="1" lang="ro-RO" sz="2400" spc="-1" strike="noStrike" baseline="-25000">
                <a:solidFill>
                  <a:srgbClr val="dddddd"/>
                </a:solidFill>
                <a:latin typeface="Monotype Corsiva"/>
              </a:rPr>
              <a:t>n</a:t>
            </a:r>
            <a:r>
              <a:rPr b="0" lang="ro-RO" sz="2400" spc="-1" strike="noStrike">
                <a:solidFill>
                  <a:srgbClr val="dddddd"/>
                </a:solidFill>
                <a:latin typeface="Arial"/>
              </a:rPr>
              <a:t> este o demonstraţie, atunci pentru orice k</a:t>
            </a: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&lt;</a:t>
            </a:r>
            <a:r>
              <a:rPr b="0" lang="ro-RO" sz="2400" spc="-1" strike="noStrike">
                <a:solidFill>
                  <a:srgbClr val="dddddd"/>
                </a:solidFill>
                <a:latin typeface="Arial"/>
              </a:rPr>
              <a:t>i, </a:t>
            </a:r>
            <a:r>
              <a:rPr b="1" lang="ro-RO" sz="2400" spc="-1" strike="noStrike">
                <a:solidFill>
                  <a:srgbClr val="dddddd"/>
                </a:solidFill>
                <a:latin typeface="Monotype Corsiva"/>
              </a:rPr>
              <a:t>A</a:t>
            </a:r>
            <a:r>
              <a:rPr b="1" lang="ro-RO" sz="2400" spc="-1" strike="noStrike" baseline="-25000">
                <a:solidFill>
                  <a:srgbClr val="dddddd"/>
                </a:solidFill>
                <a:latin typeface="Monotype Corsiva"/>
              </a:rPr>
              <a:t>1</a:t>
            </a:r>
            <a:r>
              <a:rPr b="0" lang="ro-RO" sz="2400" spc="-1" strike="noStrike">
                <a:solidFill>
                  <a:srgbClr val="dddddd"/>
                </a:solidFill>
                <a:latin typeface="Arial"/>
              </a:rPr>
              <a:t> , …,  </a:t>
            </a:r>
            <a:r>
              <a:rPr b="1" lang="ro-RO" sz="2400" spc="-1" strike="noStrike">
                <a:solidFill>
                  <a:srgbClr val="dddddd"/>
                </a:solidFill>
                <a:latin typeface="Monotype Corsiva"/>
              </a:rPr>
              <a:t>A</a:t>
            </a:r>
            <a:r>
              <a:rPr b="1" lang="ro-RO" sz="2400" spc="-1" strike="noStrike" baseline="-25000">
                <a:solidFill>
                  <a:srgbClr val="dddddd"/>
                </a:solidFill>
                <a:latin typeface="Monotype Corsiva"/>
              </a:rPr>
              <a:t>k</a:t>
            </a:r>
            <a:r>
              <a:rPr b="0" lang="ro-RO" sz="2400" spc="-1" strike="noStrike">
                <a:solidFill>
                  <a:srgbClr val="dddddd"/>
                </a:solidFill>
                <a:latin typeface="Arial"/>
              </a:rPr>
              <a:t>  este o demonstraţi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dddddd"/>
                </a:solidFill>
                <a:latin typeface="Arial"/>
              </a:rPr>
              <a:t>2.  Axiomele sunt teoreme în 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stem form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  <a:ea typeface="Arial"/>
              </a:rPr>
              <a:t>O </a:t>
            </a:r>
            <a:r>
              <a:rPr b="0" lang="ro-RO" sz="3200" spc="-1" strike="noStrike">
                <a:solidFill>
                  <a:srgbClr val="ff0000"/>
                </a:solidFill>
                <a:latin typeface="Arial"/>
                <a:ea typeface="Arial"/>
              </a:rPr>
              <a:t>demonstraţie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  <a:ea typeface="Arial"/>
              </a:rPr>
              <a:t> în L este o secvenţă de fbf </a:t>
            </a:r>
            <a:r>
              <a:rPr b="1" lang="ro-RO" sz="32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1" lang="ro-RO" sz="3200" spc="-1" strike="noStrike" baseline="-25000">
                <a:solidFill>
                  <a:srgbClr val="000000"/>
                </a:solidFill>
                <a:latin typeface="Monotype Corsiva"/>
              </a:rPr>
              <a:t>1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, …,  </a:t>
            </a:r>
            <a:r>
              <a:rPr b="1" lang="ro-RO" sz="32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1" lang="ro-RO" sz="3200" spc="-1" strike="noStrike" baseline="-25000">
                <a:solidFill>
                  <a:srgbClr val="000000"/>
                </a:solidFill>
                <a:latin typeface="Monotype Corsiva"/>
              </a:rPr>
              <a:t>n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astfel încâ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32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1" lang="ro-RO" sz="3200" spc="-1" strike="noStrike" baseline="-25000">
                <a:solidFill>
                  <a:srgbClr val="000000"/>
                </a:solidFill>
                <a:latin typeface="Monotype Corsiva"/>
              </a:rPr>
              <a:t>i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 este o axiomă sa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32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1" lang="ro-RO" sz="3200" spc="-1" strike="noStrike" baseline="-25000">
                <a:solidFill>
                  <a:srgbClr val="000000"/>
                </a:solidFill>
                <a:latin typeface="Monotype Corsiva"/>
              </a:rPr>
              <a:t>i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se obţine din </a:t>
            </a:r>
            <a:r>
              <a:rPr b="1" lang="ro-RO" sz="32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Monotype Corsiva"/>
              </a:rPr>
              <a:t>j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ro-RO" sz="32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Monotype Corsiva"/>
              </a:rPr>
              <a:t>k </a:t>
            </a:r>
            <a:r>
              <a:rPr b="1" lang="ro-RO" sz="3200" spc="-1" strike="noStrike" baseline="-25000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prin MP (j,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i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Spunem că secvenţa </a:t>
            </a:r>
            <a:r>
              <a:rPr b="1" lang="ro-RO" sz="32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1" lang="ro-RO" sz="3200" spc="-1" strike="noStrike" baseline="-25000">
                <a:solidFill>
                  <a:srgbClr val="000000"/>
                </a:solidFill>
                <a:latin typeface="Monotype Corsiva"/>
              </a:rPr>
              <a:t>1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, …,  </a:t>
            </a:r>
            <a:r>
              <a:rPr b="1" lang="ro-RO" sz="32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1" lang="ro-RO" sz="3200" spc="-1" strike="noStrike" baseline="-25000">
                <a:solidFill>
                  <a:srgbClr val="000000"/>
                </a:solidFill>
                <a:latin typeface="Monotype Corsiva"/>
              </a:rPr>
              <a:t>n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este o demonstraţie </a:t>
            </a:r>
            <a:r>
              <a:rPr b="0" lang="ro-RO" sz="3200" spc="-1" strike="noStrike">
                <a:solidFill>
                  <a:srgbClr val="ff0000"/>
                </a:solidFill>
                <a:latin typeface="Arial"/>
              </a:rPr>
              <a:t>a lui </a:t>
            </a:r>
            <a:r>
              <a:rPr b="1" lang="ro-RO" sz="3200" spc="-1" strike="noStrike">
                <a:solidFill>
                  <a:srgbClr val="ff0000"/>
                </a:solidFill>
                <a:latin typeface="Monotype Corsiva"/>
              </a:rPr>
              <a:t>A</a:t>
            </a:r>
            <a:r>
              <a:rPr b="1" lang="ro-RO" sz="3200" spc="-1" strike="noStrike" baseline="-25000">
                <a:solidFill>
                  <a:srgbClr val="ff0000"/>
                </a:solidFill>
                <a:latin typeface="Monotype Corsiva"/>
              </a:rPr>
              <a:t>n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şi că </a:t>
            </a:r>
            <a:r>
              <a:rPr b="1" lang="ro-RO" sz="32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1" lang="ro-RO" sz="3200" spc="-1" strike="noStrike" baseline="-25000">
                <a:solidFill>
                  <a:srgbClr val="000000"/>
                </a:solidFill>
                <a:latin typeface="Monotype Corsiva"/>
              </a:rPr>
              <a:t>n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este o </a:t>
            </a:r>
            <a:r>
              <a:rPr b="0" lang="ro-RO" sz="3200" spc="-1" strike="noStrike">
                <a:solidFill>
                  <a:srgbClr val="ff0000"/>
                </a:solidFill>
                <a:latin typeface="Arial"/>
              </a:rPr>
              <a:t>teoremă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în 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99"/>
                </a:solidFill>
                <a:latin typeface="Arial"/>
              </a:rPr>
              <a:t>Ob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99"/>
                </a:solidFill>
                <a:latin typeface="Arial"/>
              </a:rPr>
              <a:t>1. Dacă </a:t>
            </a:r>
            <a:r>
              <a:rPr b="1" lang="ro-RO" sz="2400" spc="-1" strike="noStrike">
                <a:solidFill>
                  <a:srgbClr val="000099"/>
                </a:solidFill>
                <a:latin typeface="Monotype Corsiva"/>
              </a:rPr>
              <a:t>A</a:t>
            </a:r>
            <a:r>
              <a:rPr b="1" lang="ro-RO" sz="2400" spc="-1" strike="noStrike" baseline="-25000">
                <a:solidFill>
                  <a:srgbClr val="000099"/>
                </a:solidFill>
                <a:latin typeface="Monotype Corsiva"/>
              </a:rPr>
              <a:t>1</a:t>
            </a:r>
            <a:r>
              <a:rPr b="0" lang="ro-RO" sz="2400" spc="-1" strike="noStrike">
                <a:solidFill>
                  <a:srgbClr val="000099"/>
                </a:solidFill>
                <a:latin typeface="Arial"/>
              </a:rPr>
              <a:t> , …,  </a:t>
            </a:r>
            <a:r>
              <a:rPr b="1" lang="ro-RO" sz="2400" spc="-1" strike="noStrike">
                <a:solidFill>
                  <a:srgbClr val="000099"/>
                </a:solidFill>
                <a:latin typeface="Monotype Corsiva"/>
              </a:rPr>
              <a:t>A</a:t>
            </a:r>
            <a:r>
              <a:rPr b="1" lang="ro-RO" sz="2400" spc="-1" strike="noStrike" baseline="-25000">
                <a:solidFill>
                  <a:srgbClr val="000099"/>
                </a:solidFill>
                <a:latin typeface="Monotype Corsiva"/>
              </a:rPr>
              <a:t>n</a:t>
            </a:r>
            <a:r>
              <a:rPr b="0" lang="ro-RO" sz="2400" spc="-1" strike="noStrike">
                <a:solidFill>
                  <a:srgbClr val="000099"/>
                </a:solidFill>
                <a:latin typeface="Arial"/>
              </a:rPr>
              <a:t> este o demonstraţie, atunci pentru orice k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&lt;n</a:t>
            </a:r>
            <a:r>
              <a:rPr b="0" lang="ro-RO" sz="24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1" lang="ro-RO" sz="2400" spc="-1" strike="noStrike">
                <a:solidFill>
                  <a:srgbClr val="000099"/>
                </a:solidFill>
                <a:latin typeface="Monotype Corsiva"/>
              </a:rPr>
              <a:t>A</a:t>
            </a:r>
            <a:r>
              <a:rPr b="1" lang="ro-RO" sz="2400" spc="-1" strike="noStrike" baseline="-25000">
                <a:solidFill>
                  <a:srgbClr val="000099"/>
                </a:solidFill>
                <a:latin typeface="Monotype Corsiva"/>
              </a:rPr>
              <a:t>1</a:t>
            </a:r>
            <a:r>
              <a:rPr b="0" lang="ro-RO" sz="2400" spc="-1" strike="noStrike">
                <a:solidFill>
                  <a:srgbClr val="000099"/>
                </a:solidFill>
                <a:latin typeface="Arial"/>
              </a:rPr>
              <a:t> , …,  </a:t>
            </a:r>
            <a:r>
              <a:rPr b="1" lang="ro-RO" sz="2400" spc="-1" strike="noStrike">
                <a:solidFill>
                  <a:srgbClr val="000099"/>
                </a:solidFill>
                <a:latin typeface="Monotype Corsiva"/>
              </a:rPr>
              <a:t>A</a:t>
            </a:r>
            <a:r>
              <a:rPr b="1" lang="ro-RO" sz="2400" spc="-1" strike="noStrike" baseline="-25000">
                <a:solidFill>
                  <a:srgbClr val="000099"/>
                </a:solidFill>
                <a:latin typeface="Monotype Corsiva"/>
              </a:rPr>
              <a:t>k</a:t>
            </a:r>
            <a:r>
              <a:rPr b="0" lang="ro-RO" sz="2400" spc="-1" strike="noStrike">
                <a:solidFill>
                  <a:srgbClr val="000099"/>
                </a:solidFill>
                <a:latin typeface="Arial"/>
              </a:rPr>
              <a:t>  este o demonstraţi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99"/>
                </a:solidFill>
                <a:latin typeface="Arial"/>
              </a:rPr>
              <a:t>2.  Axiomele sunt teoreme în 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7T19:06:24Z</dcterms:created>
  <dc:creator>Adela</dc:creator>
  <dc:description/>
  <dc:language>en-US</dc:language>
  <cp:lastModifiedBy>cerasela</cp:lastModifiedBy>
  <dcterms:modified xsi:type="dcterms:W3CDTF">2015-10-04T05:29:57Z</dcterms:modified>
  <cp:revision>213</cp:revision>
  <dc:subject/>
  <dc:title>LOGICA PROPOZIŢIONALĂ  Propoziţii şi conectori. Funcţii de  adevăr. Tabele de adevăr.  Forme propoziţionale.</dc:title>
</cp:coreProperties>
</file>