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23BA-F087-4509-822E-1C698301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23C2-97AB-4335-8AED-45F7C2C3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5B78-E41D-4F0C-9B5A-19C423B77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0001-397B-439A-B084-9B39CB40F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B508-4BD2-4BE9-84C0-B935BD7D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0E37-0BD6-480C-B27A-CC25DB1E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4459-5314-4095-940A-B753A941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6544-BAAD-4624-ACC4-38F7F76E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8763-CA05-41A3-9EB7-95A89AB5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40BC-A909-40AD-98B5-756A941C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1C17-44CD-4882-86B4-A40F527F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8DE1-14E0-4102-8DA7-F9568F74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38D3-E88A-4E5A-A1F0-73D56F029ABC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-groups.dcs.st-and.ac.uk/~history/Mathematicians/De_Morgan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-groups.dcs.st-and.ac.uk/~history/Mathematicians/De_Morgan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8381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ICA PROPOZIŢIONALĂ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uli de substituţie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e propoziţionale restricţionate.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e propoziţionale normale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ţime adecvată de conector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99"/>
                </a:solidFill>
                <a:latin typeface="Arial"/>
              </a:rPr>
              <a:t>LOGICA COMPUTAŢIONAL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INFORMATICĂ an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Curs 3 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  <a:ea typeface="Arial"/>
              </a:rPr>
              <a:t>şi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e propoziţionale norm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T5.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Orice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ormă propoziţională care nu e </a:t>
            </a:r>
            <a:r>
              <a:rPr b="0" lang="ro-RO" sz="2800" spc="-1" strike="noStrike">
                <a:solidFill>
                  <a:srgbClr val="009999"/>
                </a:solidFill>
                <a:latin typeface="Arial"/>
              </a:rPr>
              <a:t>contradicţi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este logic echivalentă cu o form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restricţionată de tipu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           ,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unde Q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ij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ste 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variabilă propoziţională sau negaţia unei variabile propoziţionale. (formă normală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disjunctivă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n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T6.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Orice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ormă propoziţională care nu 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9999"/>
                </a:solidFill>
                <a:latin typeface="Arial"/>
              </a:rPr>
              <a:t>tautologi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este logic echivalentă cu o form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restricţionată de tipu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           ,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unde Q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ij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ste 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variabilă propoziţională sau negaţia unei variabile propoziţionale. (formă normală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conjunctivă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nc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273560" y="2257560"/>
                <a:ext cx="113652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limUpp>
                          <m:e/>
                          <m:lim>
                            <m:r>
                              <m:t xml:space="preserve">m</m:t>
                            </m:r>
                          </m:lim>
                        </m:limUpp>
                      </m:e>
                      <m:lim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limLow>
                      <m:e>
                        <m:limUpp>
                          <m:e/>
                          <m:lim>
                            <m:r>
                              <m:t xml:space="preserve">n</m:t>
                            </m:r>
                          </m:lim>
                        </m:limUpp>
                      </m:e>
                      <m:lim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197240" y="4924440"/>
                <a:ext cx="11368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limUpp>
                          <m:e/>
                          <m:lim>
                            <m:r>
                              <m:t xml:space="preserve">m</m:t>
                            </m:r>
                          </m:lim>
                        </m:limUpp>
                      </m:e>
                      <m:lim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limLow>
                      <m:e>
                        <m:limUpp>
                          <m:e/>
                          <m:lim>
                            <m:r>
                              <m:t xml:space="preserve">n</m:t>
                            </m:r>
                          </m:lim>
                        </m:limUpp>
                      </m:e>
                      <m:lim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e propoziţionale norm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lgoritm de construcţie a formei normale disjunct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 construieşte tabelul de adevăr al formei propoziţionale, care are 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variabile propoziţionale p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, …, p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entru interpretările care satisfac forma propoziţională, se construieşt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conjuncţia de baz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       unde Q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este p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, dacă interpretarea lui p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este A, sau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, dacă interpretarea lui p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este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 construieşte forma normală disjunctivă, folosind conjuncţiile de baz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4724280"/>
            <a:ext cx="563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44197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133720" y="3886200"/>
                <a:ext cx="693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limUpp>
                          <m:e/>
                          <m:lim>
                            <m:r>
                              <m:t xml:space="preserve">n</m:t>
                            </m:r>
                          </m:lim>
                        </m:limUpp>
                      </m:e>
                      <m:lim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e propoziţionale norm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lgoritm de construcţie a formei normale disjun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(p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q)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r) este logic echivalentă cu forma normală disjunc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dddddd"/>
                </a:solidFill>
                <a:latin typeface="Arial"/>
              </a:rPr>
              <a:t>((p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  <a:ea typeface="Arial"/>
              </a:rPr>
              <a:t>ΛqΛr)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dddddd"/>
                </a:solidFill>
                <a:latin typeface="Arial"/>
                <a:ea typeface="Arial"/>
              </a:rPr>
              <a:t>(pΛ(~q)Λr)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dddddd"/>
                </a:solidFill>
                <a:latin typeface="Arial"/>
                <a:ea typeface="Arial"/>
              </a:rPr>
              <a:t>(pΛ(~q)Λ(~r))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dddddd"/>
                </a:solidFill>
                <a:latin typeface="Arial"/>
                <a:ea typeface="Arial"/>
              </a:rPr>
              <a:t>((~p)ΛqΛ r)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dddddd"/>
                </a:solidFill>
                <a:latin typeface="Arial"/>
                <a:ea typeface="Arial"/>
              </a:rPr>
              <a:t>((~p)Λ(~q)Λr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343400" y="1676520"/>
          <a:ext cx="4648320" cy="4657680"/>
        </p:xfrm>
        <a:graphic>
          <a:graphicData uri="http://schemas.openxmlformats.org/drawingml/2006/table">
            <a:tbl>
              <a:tblPr/>
              <a:tblGrid>
                <a:gridCol w="838080"/>
                <a:gridCol w="838440"/>
                <a:gridCol w="838080"/>
                <a:gridCol w="21337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(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e propoziţionale norm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lgoritm de construcţie a formei normale disjun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(p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q)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r) este logic echivalentă cu forma normală disjunc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dddddd"/>
                </a:solidFill>
                <a:latin typeface="Arial"/>
              </a:rPr>
              <a:t>(</a:t>
            </a:r>
            <a:r>
              <a:rPr b="0" lang="ro-RO" sz="2000" spc="-1" strike="noStrike">
                <a:solidFill>
                  <a:srgbClr val="ff00ff"/>
                </a:solidFill>
                <a:latin typeface="Arial"/>
              </a:rPr>
              <a:t>(p</a:t>
            </a:r>
            <a:r>
              <a:rPr b="0" lang="ro-RO" sz="2000" spc="-1" strike="noStrike">
                <a:solidFill>
                  <a:srgbClr val="ff00ff"/>
                </a:solidFill>
                <a:latin typeface="Arial"/>
                <a:ea typeface="Arial"/>
              </a:rPr>
              <a:t>ΛqΛr)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  <a:ea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dddddd"/>
                </a:solidFill>
                <a:latin typeface="Arial"/>
                <a:ea typeface="Arial"/>
              </a:rPr>
              <a:t>(pΛ(~q)Λr)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dddddd"/>
                </a:solidFill>
                <a:latin typeface="Arial"/>
                <a:ea typeface="Arial"/>
              </a:rPr>
              <a:t>(pΛ(~q)Λ(~r))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dddddd"/>
                </a:solidFill>
                <a:latin typeface="Arial"/>
                <a:ea typeface="Arial"/>
              </a:rPr>
              <a:t>((~p)ΛqΛ r)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dddddd"/>
                </a:solidFill>
                <a:latin typeface="Arial"/>
                <a:ea typeface="Arial"/>
              </a:rPr>
              <a:t>((~p)Λ(~q)Λr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343400" y="1676520"/>
          <a:ext cx="4648320" cy="4657680"/>
        </p:xfrm>
        <a:graphic>
          <a:graphicData uri="http://schemas.openxmlformats.org/drawingml/2006/table">
            <a:tbl>
              <a:tblPr/>
              <a:tblGrid>
                <a:gridCol w="838080"/>
                <a:gridCol w="838440"/>
                <a:gridCol w="838080"/>
                <a:gridCol w="21337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(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e propoziţionale norm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lgoritm de construcţie a formei normale disjun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(p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q)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r) este logic echivalentă cu forma normală disjunc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dddddd"/>
                </a:solidFill>
                <a:latin typeface="Arial"/>
              </a:rPr>
              <a:t>(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ΛqΛr)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  <a:ea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00ff"/>
                </a:solidFill>
                <a:latin typeface="Arial"/>
                <a:ea typeface="Arial"/>
              </a:rPr>
              <a:t>(pΛ(~q)Λr)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  <a:ea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dddddd"/>
                </a:solidFill>
                <a:latin typeface="Arial"/>
                <a:ea typeface="Arial"/>
              </a:rPr>
              <a:t>(pΛ(~q)Λ(~r))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dddddd"/>
                </a:solidFill>
                <a:latin typeface="Arial"/>
                <a:ea typeface="Arial"/>
              </a:rPr>
              <a:t>((~p)ΛqΛ r)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dddddd"/>
                </a:solidFill>
                <a:latin typeface="Arial"/>
                <a:ea typeface="Arial"/>
              </a:rPr>
              <a:t>((~p)Λ(~q)Λr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343400" y="1676520"/>
          <a:ext cx="4648320" cy="4657680"/>
        </p:xfrm>
        <a:graphic>
          <a:graphicData uri="http://schemas.openxmlformats.org/drawingml/2006/table">
            <a:tbl>
              <a:tblPr/>
              <a:tblGrid>
                <a:gridCol w="838080"/>
                <a:gridCol w="838440"/>
                <a:gridCol w="838080"/>
                <a:gridCol w="21337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(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e propoziţionale norm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lgoritm de construcţie a formei normale disjun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(p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q)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r) este logic echivalentă cu forma normală disjunc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dddddd"/>
                </a:solidFill>
                <a:latin typeface="Arial"/>
              </a:rPr>
              <a:t>(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ΛqΛr)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  <a:ea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(pΛ(~q)Λr)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  <a:ea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00ff"/>
                </a:solidFill>
                <a:latin typeface="Arial"/>
                <a:ea typeface="Arial"/>
              </a:rPr>
              <a:t>(pΛ(~q)Λ(~r))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  <a:ea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dddddd"/>
                </a:solidFill>
                <a:latin typeface="Arial"/>
                <a:ea typeface="Arial"/>
              </a:rPr>
              <a:t>((~p)ΛqΛ r)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dddddd"/>
                </a:solidFill>
                <a:latin typeface="Arial"/>
                <a:ea typeface="Arial"/>
              </a:rPr>
              <a:t>((~p)Λ(~q)Λr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343400" y="1676520"/>
          <a:ext cx="4648320" cy="4657680"/>
        </p:xfrm>
        <a:graphic>
          <a:graphicData uri="http://schemas.openxmlformats.org/drawingml/2006/table">
            <a:tbl>
              <a:tblPr/>
              <a:tblGrid>
                <a:gridCol w="838080"/>
                <a:gridCol w="838440"/>
                <a:gridCol w="838080"/>
                <a:gridCol w="21337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(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e propoziţionale norm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lgoritm de construcţie a formei normale disjun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(p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q)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r) este logic echivalentă cu forma normală disjunc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dddddd"/>
                </a:solidFill>
                <a:latin typeface="Arial"/>
              </a:rPr>
              <a:t>(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ΛqΛr)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  <a:ea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(pΛ(~q)Λr)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  <a:ea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(pΛ(~q)Λ(~r))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  <a:ea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00ff"/>
                </a:solidFill>
                <a:latin typeface="Arial"/>
                <a:ea typeface="Arial"/>
              </a:rPr>
              <a:t>((~p)ΛqΛ r)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  <a:ea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dddddd"/>
                </a:solidFill>
                <a:latin typeface="Arial"/>
                <a:ea typeface="Arial"/>
              </a:rPr>
              <a:t>((~p)Λ(~q)Λr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343400" y="1676520"/>
          <a:ext cx="4648320" cy="4657680"/>
        </p:xfrm>
        <a:graphic>
          <a:graphicData uri="http://schemas.openxmlformats.org/drawingml/2006/table">
            <a:tbl>
              <a:tblPr/>
              <a:tblGrid>
                <a:gridCol w="838080"/>
                <a:gridCol w="838440"/>
                <a:gridCol w="838080"/>
                <a:gridCol w="21337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(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e propoziţionale norm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lgoritm de construcţie a formei normale disjun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(p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q)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r) este logic echivalentă cu forma normală disjunc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dddddd"/>
                </a:solidFill>
                <a:latin typeface="Arial"/>
              </a:rPr>
              <a:t>(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ΛqΛr)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  <a:ea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(pΛ(~q)Λr)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  <a:ea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(pΛ(~q)Λ(~r))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  <a:ea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((~p)ΛqΛ r)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  <a:ea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00ff"/>
                </a:solidFill>
                <a:latin typeface="Arial"/>
                <a:ea typeface="Arial"/>
              </a:rPr>
              <a:t>((~p)Λ(~q)Λr)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343400" y="1676520"/>
          <a:ext cx="4648320" cy="4657680"/>
        </p:xfrm>
        <a:graphic>
          <a:graphicData uri="http://schemas.openxmlformats.org/drawingml/2006/table">
            <a:tbl>
              <a:tblPr/>
              <a:tblGrid>
                <a:gridCol w="838080"/>
                <a:gridCol w="838440"/>
                <a:gridCol w="838080"/>
                <a:gridCol w="21337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(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e propoziţionale norm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lgoritm de construcţie a formei normale disjun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(p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q)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r) este logic echivalentă cu forma normală disjunc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00ff"/>
                </a:solidFill>
                <a:latin typeface="Arial"/>
              </a:rPr>
              <a:t>(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ΛqΛr)</a:t>
            </a:r>
            <a:r>
              <a:rPr b="0" lang="ro-RO" sz="2000" spc="-1" strike="noStrike">
                <a:solidFill>
                  <a:srgbClr val="ff00ff"/>
                </a:solidFill>
                <a:latin typeface="Arial"/>
                <a:ea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(pΛ(~q)Λr)</a:t>
            </a:r>
            <a:r>
              <a:rPr b="0" lang="ro-RO" sz="2000" spc="-1" strike="noStrike">
                <a:solidFill>
                  <a:srgbClr val="ff00ff"/>
                </a:solidFill>
                <a:latin typeface="Arial"/>
                <a:ea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(pΛ(~q)Λ(~r))</a:t>
            </a:r>
            <a:r>
              <a:rPr b="0" lang="ro-RO" sz="2000" spc="-1" strike="noStrike">
                <a:solidFill>
                  <a:srgbClr val="ff00ff"/>
                </a:solidFill>
                <a:latin typeface="Arial"/>
                <a:ea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((~p)ΛqΛ r)</a:t>
            </a:r>
            <a:r>
              <a:rPr b="0" lang="ro-RO" sz="2000" spc="-1" strike="noStrike">
                <a:solidFill>
                  <a:srgbClr val="ff00ff"/>
                </a:solidFill>
                <a:latin typeface="Arial"/>
                <a:ea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((~p)Λ(~q)Λr)</a:t>
            </a:r>
            <a:r>
              <a:rPr b="0" lang="ro-RO" sz="2000" spc="-1" strike="noStrike">
                <a:solidFill>
                  <a:srgbClr val="ff00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00ff"/>
                </a:solidFill>
                <a:latin typeface="Arial"/>
                <a:ea typeface="Arial"/>
              </a:rPr>
              <a:t>5 conjuncţii de baz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343400" y="1676520"/>
          <a:ext cx="4648320" cy="4657680"/>
        </p:xfrm>
        <a:graphic>
          <a:graphicData uri="http://schemas.openxmlformats.org/drawingml/2006/table">
            <a:tbl>
              <a:tblPr/>
              <a:tblGrid>
                <a:gridCol w="838080"/>
                <a:gridCol w="838440"/>
                <a:gridCol w="838080"/>
                <a:gridCol w="21337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(p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 flipV="1">
            <a:off x="2971800" y="2438280"/>
            <a:ext cx="137160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971800" y="3429000"/>
            <a:ext cx="137160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971800" y="3962520"/>
            <a:ext cx="137160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971800" y="4495320"/>
            <a:ext cx="1371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71800" y="5486040"/>
            <a:ext cx="1371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u.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 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4343040"/>
            <a:ext cx="81536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ul 1. Tabelul de ade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ul 2. 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 toate liniile care a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A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ultima colo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Aceste linii sunt 1, 5, 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ul 3. FND pentru expresia d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V (~a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) V (~a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b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1523880"/>
          <a:ext cx="4038480" cy="2587680"/>
        </p:xfrm>
        <a:graphic>
          <a:graphicData uri="http://schemas.openxmlformats.org/drawingml/2006/table">
            <a:tbl>
              <a:tblPr/>
              <a:tblGrid>
                <a:gridCol w="1009800"/>
                <a:gridCol w="1009440"/>
                <a:gridCol w="1009800"/>
                <a:gridCol w="1009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800600" y="1527120"/>
          <a:ext cx="4038480" cy="2587680"/>
        </p:xfrm>
        <a:graphic>
          <a:graphicData uri="http://schemas.openxmlformats.org/drawingml/2006/table">
            <a:tbl>
              <a:tblPr/>
              <a:tblGrid>
                <a:gridCol w="1009800"/>
                <a:gridCol w="1009440"/>
                <a:gridCol w="1009800"/>
                <a:gridCol w="1009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res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i de substituţ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0000"/>
                </a:solidFill>
                <a:latin typeface="Arial"/>
              </a:rPr>
              <a:t>T1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 Fie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formă propoziţională în care apar variabilele propoziţionale p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…, p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 Fie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2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, …, 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200" spc="-1" strike="noStrike" baseline="-25000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forme propoziţionale. Fie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ţinută din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prin înlocuirea tuturor apariţiilor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cu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200" spc="-1" strike="noStrike" baseline="-25000">
                <a:solidFill>
                  <a:srgbClr val="000000"/>
                </a:solidFill>
                <a:latin typeface="Monotype Corsiva"/>
              </a:rPr>
              <a:t>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i≤n)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. Dacă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este tautologie, atunci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este tautologie.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~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(</a:t>
            </a:r>
            <a:r>
              <a:rPr b="1" lang="ro-RO" sz="3200" spc="-1" strike="noStrike">
                <a:solidFill>
                  <a:srgbClr val="dddddd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V </a:t>
            </a:r>
            <a:r>
              <a:rPr b="1" lang="en-US" sz="3200" spc="-1" strike="noStrike">
                <a:solidFill>
                  <a:srgbClr val="dddddd"/>
                </a:solidFill>
                <a:latin typeface="Monotype Corsiva"/>
                <a:ea typeface="Arial"/>
              </a:rPr>
              <a:t>B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)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  <a:ea typeface="Arial"/>
              </a:rPr>
              <a:t>↔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((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~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dddddd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)</a:t>
            </a:r>
            <a:r>
              <a:rPr b="0" lang="el-GR" sz="2400" spc="-1" strike="noStrike">
                <a:solidFill>
                  <a:srgbClr val="dddddd"/>
                </a:solidFill>
                <a:latin typeface="Arial"/>
                <a:ea typeface="Arial"/>
              </a:rPr>
              <a:t>Λ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~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dddddd"/>
                </a:solidFill>
                <a:latin typeface="Monotype Corsiva"/>
                <a:ea typeface="Arial"/>
              </a:rPr>
              <a:t>B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))) este tautologie, oricare ar fi </a:t>
            </a:r>
            <a:r>
              <a:rPr b="1" lang="ro-RO" sz="3200" spc="-1" strike="noStrike">
                <a:solidFill>
                  <a:srgbClr val="dddddd"/>
                </a:solidFill>
                <a:latin typeface="Monotype Corsiva"/>
              </a:rPr>
              <a:t>A, </a:t>
            </a:r>
            <a:r>
              <a:rPr b="1" lang="en-US" sz="3200" spc="-1" strike="noStrike">
                <a:solidFill>
                  <a:srgbClr val="dddddd"/>
                </a:solidFill>
                <a:latin typeface="Monotype Corsiva"/>
                <a:ea typeface="Arial"/>
              </a:rPr>
              <a:t>B</a:t>
            </a:r>
            <a:r>
              <a:rPr b="1" lang="ro-RO" sz="3200" spc="-1" strike="noStrike">
                <a:solidFill>
                  <a:srgbClr val="dddddd"/>
                </a:solidFill>
                <a:latin typeface="Monotype Corsiva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dddddd"/>
                </a:solidFill>
                <a:latin typeface="Arial"/>
                <a:ea typeface="Arial"/>
              </a:rPr>
              <a:t>Ind. Deoarece 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~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</a:rPr>
              <a:t>(pVq)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  <a:ea typeface="Arial"/>
              </a:rPr>
              <a:t>↔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</a:rPr>
              <a:t>((</a:t>
            </a: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~p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</a:rPr>
              <a:t>)</a:t>
            </a:r>
            <a:r>
              <a:rPr b="0" lang="el-GR" sz="2000" spc="-1" strike="noStrike">
                <a:solidFill>
                  <a:srgbClr val="dddddd"/>
                </a:solidFill>
                <a:latin typeface="Arial"/>
                <a:ea typeface="Arial"/>
              </a:rPr>
              <a:t>Λ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~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  <a:ea typeface="Arial"/>
              </a:rPr>
              <a:t>q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</a:rPr>
              <a:t>))) este tautologie; verificare prin tabelul de adevăr (curs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ntr-o formă normală disjunctiv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n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ţiil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nt legate prin V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ţ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mai sc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: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nalogie cu scrierea algeb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 xyz pentru x∙y∙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3200400"/>
          <a:ext cx="3962520" cy="55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200400"/>
                    <a:ext cx="396252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191120" y="3809880"/>
          <a:ext cx="2743200" cy="48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3809880"/>
                    <a:ext cx="274320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e propoziţionale norm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e propoziţionale norm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Algoritmul de construcţie a formei normale conjunctive 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zeaz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ă prin </a:t>
            </a:r>
            <a:r>
              <a:rPr b="0" lang="ro-RO" sz="3200" spc="-1" strike="noStrike">
                <a:solidFill>
                  <a:srgbClr val="ff0000"/>
                </a:solidFill>
                <a:latin typeface="Arial"/>
              </a:rPr>
              <a:t>duali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 defineşt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disjuncţia de baz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corespunzătoare fiecărei linii din tabelul de adevăr evaluată la F, unde Q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este p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, dacă interpretarea lui p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este F, sa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, dacă interpretarea lui p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este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 leagă pri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toate disjuncţiile de bază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Literalul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ste o variabilă propoziţională sau negaţia unei variabile propoziţion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4724280"/>
            <a:ext cx="563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e propoziţionale norm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ALT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METOD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a transforma funcţia logică, astfel încât s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ajung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ND(FNC)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 pot fi utilizate următoarele expresii echivale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09480" y="3505320"/>
                <a:ext cx="8153640" cy="24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→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A</m:t>
                        </m:r>
                        <m:r>
                          <m:t xml:space="preserve">∨</m:t>
                        </m:r>
                        <m:r>
                          <m:t xml:space="preserve">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∨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∧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∨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B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↔</m:t>
                        </m:r>
                        <m:r>
                          <m:t xml:space="preserve">B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A</m:t>
                        </m:r>
                        <m:r>
                          <m:t xml:space="preserve">∨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B</m:t>
                        </m:r>
                        <m:r>
                          <m:t xml:space="preserve">∨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ALT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METOD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lgoritmul de aducere a une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e propoz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al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la forma normală are următorii paş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e elimin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ectori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alţii decât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 ~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e coboară negaţia pe variab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e aplică distributivi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asociativi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e propoziţionale norm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ul 1      FND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371600" y="2514600"/>
                <a:ext cx="2736720" cy="30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→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p</m:t>
                        </m:r>
                        <m:r>
                          <m:t xml:space="preserve">∨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p</m:t>
                        </m:r>
                        <m:r>
                          <m:t xml:space="preserve">∨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p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e propoziţionale norm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ul 2    F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371600" y="2514600"/>
                <a:ext cx="6172200" cy="29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→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p</m:t>
                        </m:r>
                        <m:r>
                          <m:t xml:space="preserve">∨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q</m:t>
                        </m:r>
                        <m:r>
                          <m:t xml:space="preserve">∨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p</m:t>
                        </m:r>
                        <m:r>
                          <m:t xml:space="preserve">∨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p</m:t>
                        </m:r>
                        <m:r>
                          <m:t xml:space="preserve">∨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q</m:t>
                        </m:r>
                        <m:r>
                          <m:t xml:space="preserve">∨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p</m:t>
                        </m:r>
                        <m:r>
                          <m:t xml:space="preserve">∨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p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q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p</m:t>
                        </m:r>
                        <m:r>
                          <m:t xml:space="preserve">∨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p</m:t>
                        </m:r>
                        <m:r>
                          <m:t xml:space="preserve">∨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e propoziţionale norm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ţime adecvată de conec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ie M o mulţime de conectori. M este o mulţim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adecvată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de conectori dacă pentru orice formă propoziţională există o alta logic echivalentă care conţine numai conectorii din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De ex. 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{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~,</a:t>
            </a:r>
            <a:r>
              <a:rPr b="0" lang="el-GR" sz="2400" spc="-1" strike="noStrike">
                <a:solidFill>
                  <a:srgbClr val="dddddd"/>
                </a:solidFill>
                <a:latin typeface="Arial"/>
                <a:ea typeface="Arial"/>
              </a:rPr>
              <a:t>Λ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, V}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  <a:ea typeface="Arial"/>
              </a:rPr>
              <a:t> este mulţime adecvat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dddddd"/>
                </a:solidFill>
                <a:latin typeface="Arial"/>
                <a:ea typeface="Arial"/>
              </a:rPr>
              <a:t>Ind. T5 şi T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ţime adecvată de conec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ie M o mulţime de conectori. M este o mulţim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adecvată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de conectori dacă pentru orice formă propoziţională există o alta logic echivalentă care conţine numai conectorii din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De ex.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~, </a:t>
            </a:r>
            <a:r>
              <a:rPr b="0" lang="el-GR" sz="2400" spc="-1" strike="noStrike">
                <a:solidFill>
                  <a:srgbClr val="000099"/>
                </a:solidFill>
                <a:latin typeface="Arial"/>
                <a:ea typeface="Arial"/>
              </a:rPr>
              <a:t>Λ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V}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  <a:ea typeface="Arial"/>
              </a:rPr>
              <a:t> este mulţime adecvat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dddddd"/>
                </a:solidFill>
                <a:latin typeface="Arial"/>
                <a:ea typeface="Arial"/>
              </a:rPr>
              <a:t>Ind. T5 şi T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ţime adecvată de conec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ie M o mulţime de conectori. M este o mulţim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adecvată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de conectori dacă pentru orice formă propoziţională există o alta logic echivalentă care conţine numai conectorii din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 ex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V}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este mulţime adecvat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Arial"/>
                <a:ea typeface="Arial"/>
              </a:rPr>
              <a:t>Ind. T5 şi T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o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K1 = {~, V}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K2 = {~,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} sunt m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i adecvate de conecto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I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A </a:t>
            </a:r>
            <a:r>
              <a:rPr b="0" lang="el-GR" sz="2400" spc="-1" strike="noStrike">
                <a:solidFill>
                  <a:srgbClr val="dddddd"/>
                </a:solidFill>
                <a:latin typeface="Arial"/>
                <a:ea typeface="Arial"/>
              </a:rPr>
              <a:t>Λ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 B  este logic echivalent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 cu ~(~A V ~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A V B  este logic echivalent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 cu ~(~A </a:t>
            </a:r>
            <a:r>
              <a:rPr b="0" lang="el-GR" sz="2400" spc="-1" strike="noStrike">
                <a:solidFill>
                  <a:srgbClr val="dddddd"/>
                </a:solidFill>
                <a:latin typeface="Arial"/>
                <a:ea typeface="Arial"/>
              </a:rPr>
              <a:t>Λ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 ~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ţime adecvată de conect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i de substituţ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0000"/>
                </a:solidFill>
                <a:latin typeface="Arial"/>
              </a:rPr>
              <a:t>T1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 Fie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formă propoziţională în care apar variabilele propoziţionale p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…, p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 Fie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2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, …, 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200" spc="-1" strike="noStrike" baseline="-25000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forme propoziţionale. Fie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ţinută din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prin înlocuirea tuturor apariţiilor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cu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200" spc="-1" strike="noStrike" baseline="-25000">
                <a:solidFill>
                  <a:srgbClr val="000000"/>
                </a:solidFill>
                <a:latin typeface="Monotype Corsiv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i≤n)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. Dacă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este tautologie, atunci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este tautologie.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~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ro-RO" sz="3200" spc="-1" strike="noStrike">
                <a:solidFill>
                  <a:srgbClr val="000099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000099"/>
                </a:solidFill>
                <a:latin typeface="Monotype Corsiva"/>
                <a:ea typeface="Arial"/>
              </a:rPr>
              <a:t>B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  <a:ea typeface="Arial"/>
              </a:rPr>
              <a:t>↔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((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~</a:t>
            </a:r>
            <a:r>
              <a:rPr b="1" lang="ro-RO" sz="3200" spc="-1" strike="noStrike">
                <a:solidFill>
                  <a:srgbClr val="000099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el-GR" sz="2400" spc="-1" strike="noStrike">
                <a:solidFill>
                  <a:srgbClr val="000099"/>
                </a:solidFill>
                <a:latin typeface="Arial"/>
                <a:ea typeface="Arial"/>
              </a:rPr>
              <a:t>Λ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~</a:t>
            </a:r>
            <a:r>
              <a:rPr b="1" lang="en-US" sz="3200" spc="-1" strike="noStrike">
                <a:solidFill>
                  <a:srgbClr val="000099"/>
                </a:solidFill>
                <a:latin typeface="Monotype Corsiva"/>
                <a:ea typeface="Arial"/>
              </a:rPr>
              <a:t>B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))) este tautologie, oricare ar fi </a:t>
            </a:r>
            <a:r>
              <a:rPr b="1" lang="ro-RO" sz="3200" spc="-1" strike="noStrike">
                <a:solidFill>
                  <a:srgbClr val="000099"/>
                </a:solidFill>
                <a:latin typeface="Monotype Corsiva"/>
              </a:rPr>
              <a:t>A, </a:t>
            </a:r>
            <a:r>
              <a:rPr b="1" lang="en-US" sz="3200" spc="-1" strike="noStrike">
                <a:solidFill>
                  <a:srgbClr val="000099"/>
                </a:solidFill>
                <a:latin typeface="Monotype Corsiva"/>
                <a:ea typeface="Arial"/>
              </a:rPr>
              <a:t>B</a:t>
            </a:r>
            <a:r>
              <a:rPr b="1" lang="ro-RO" sz="3200" spc="-1" strike="noStrike">
                <a:solidFill>
                  <a:srgbClr val="000099"/>
                </a:solidFill>
                <a:latin typeface="Monotype Corsiva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dddddd"/>
                </a:solidFill>
                <a:latin typeface="Arial"/>
                <a:ea typeface="Arial"/>
              </a:rPr>
              <a:t>Ind. Deoarece 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~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</a:rPr>
              <a:t>(pVq)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  <a:ea typeface="Arial"/>
              </a:rPr>
              <a:t>↔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</a:rPr>
              <a:t>((</a:t>
            </a: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~p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</a:rPr>
              <a:t>)</a:t>
            </a:r>
            <a:r>
              <a:rPr b="0" lang="el-GR" sz="2000" spc="-1" strike="noStrike">
                <a:solidFill>
                  <a:srgbClr val="dddddd"/>
                </a:solidFill>
                <a:latin typeface="Arial"/>
                <a:ea typeface="Arial"/>
              </a:rPr>
              <a:t>Λ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~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  <a:ea typeface="Arial"/>
              </a:rPr>
              <a:t>q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</a:rPr>
              <a:t>))) este tautologie; verificare prin tabelul de adevăr (curs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o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K1 = {~, V}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K2 = {~,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} sunt m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i adecvate de conecto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 </a:t>
            </a:r>
            <a:r>
              <a:rPr b="0" lang="el-GR" sz="2400" spc="-1" strike="noStrike">
                <a:solidFill>
                  <a:srgbClr val="000099"/>
                </a:solidFill>
                <a:latin typeface="Arial"/>
                <a:ea typeface="Arial"/>
              </a:rPr>
              <a:t>Λ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B  este logic echivalent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cu ~(~A V ~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 V B  este logic echivalent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cu ~(~A </a:t>
            </a:r>
            <a:r>
              <a:rPr b="0" lang="el-GR" sz="2400" spc="-1" strike="noStrike">
                <a:solidFill>
                  <a:srgbClr val="000099"/>
                </a:solidFill>
                <a:latin typeface="Arial"/>
                <a:ea typeface="Arial"/>
              </a:rPr>
              <a:t>Λ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~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ţime adecvată de conect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ţime adecvată de conec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Operatorul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Nor) se apl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că unei perechi de variabile propoziţiona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Rezultatul est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funcţi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Sau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tabelu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↓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{A,F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→ {A,F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↓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(A,A)=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↓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(A,F)=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↓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(F,A)=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↓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(F,F)=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952880" y="3505320"/>
          <a:ext cx="4038480" cy="2971440"/>
        </p:xfrm>
        <a:graphic>
          <a:graphicData uri="http://schemas.openxmlformats.org/drawingml/2006/table">
            <a:tbl>
              <a:tblPr/>
              <a:tblGrid>
                <a:gridCol w="1346400"/>
                <a:gridCol w="1345680"/>
                <a:gridCol w="1346400"/>
              </a:tblGrid>
              <a:tr h="59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ţime adecvată de conec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Operatorul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Nand) se apl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că unei perechi de variabile propoziţiona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Rezultatul est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funcţi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Sau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tabelu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|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{A,F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→ {A,F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|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(A,A)=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|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(A,F)=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|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(F,A)=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|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(F,F)=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952880" y="3505320"/>
          <a:ext cx="4038480" cy="2971440"/>
        </p:xfrm>
        <a:graphic>
          <a:graphicData uri="http://schemas.openxmlformats.org/drawingml/2006/table">
            <a:tbl>
              <a:tblPr/>
              <a:tblGrid>
                <a:gridCol w="1346400"/>
                <a:gridCol w="1345680"/>
                <a:gridCol w="1346400"/>
              </a:tblGrid>
              <a:tr h="59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|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ţime adecvată de conec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T7.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,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}, {~, V}, {~, →}, {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}, {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}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sunt mulţimi adecvate de conecto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dddddd"/>
                </a:solidFill>
                <a:latin typeface="Arial"/>
                <a:ea typeface="Arial"/>
              </a:rPr>
              <a:t>I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219320" y="3200400"/>
          <a:ext cx="4038480" cy="26496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409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dddddd"/>
                          </a:solidFill>
                          <a:latin typeface="Arial"/>
                          <a:ea typeface="Arial"/>
                        </a:rPr>
                        <a:t>Forme logic echival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dddddd"/>
                          </a:solidFill>
                          <a:latin typeface="Arial"/>
                        </a:rPr>
                        <a:t>(pVq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dddddd"/>
                          </a:solidFill>
                          <a:latin typeface="Arial"/>
                        </a:rPr>
                        <a:t>(pVq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dddddd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dddddd"/>
                          </a:solidFill>
                          <a:latin typeface="Arial"/>
                          <a:ea typeface="Arial"/>
                        </a:rPr>
                        <a:t>~</a:t>
                      </a:r>
                      <a:r>
                        <a:rPr b="0" lang="ro-RO" sz="2000" spc="-1" strike="noStrike">
                          <a:solidFill>
                            <a:srgbClr val="dddddd"/>
                          </a:solidFill>
                          <a:latin typeface="Arial"/>
                          <a:ea typeface="Arial"/>
                        </a:rPr>
                        <a:t>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dddddd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dddddd"/>
                          </a:solidFill>
                          <a:latin typeface="Arial"/>
                          <a:ea typeface="Arial"/>
                        </a:rPr>
                        <a:t>~</a:t>
                      </a:r>
                      <a:r>
                        <a:rPr b="0" lang="ro-RO" sz="2000" spc="-1" strike="noStrike">
                          <a:solidFill>
                            <a:srgbClr val="dddddd"/>
                          </a:solidFill>
                          <a:latin typeface="Arial"/>
                          <a:ea typeface="Arial"/>
                        </a:rPr>
                        <a:t>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dddddd"/>
                          </a:solidFill>
                          <a:latin typeface="Arial"/>
                          <a:ea typeface="Arial"/>
                        </a:rPr>
                        <a:t>(p</a:t>
                      </a:r>
                      <a:r>
                        <a:rPr b="0" lang="el-GR" sz="2000" spc="-1" strike="noStrike">
                          <a:solidFill>
                            <a:srgbClr val="dddddd"/>
                          </a:solidFill>
                          <a:latin typeface="Arial"/>
                          <a:ea typeface="Arial"/>
                        </a:rPr>
                        <a:t>Λ</a:t>
                      </a:r>
                      <a:r>
                        <a:rPr b="0" lang="ro-RO" sz="2000" spc="-1" strike="noStrike">
                          <a:solidFill>
                            <a:srgbClr val="dddddd"/>
                          </a:solidFill>
                          <a:latin typeface="Arial"/>
                          <a:ea typeface="Arial"/>
                        </a:rPr>
                        <a:t>q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dddddd"/>
                          </a:solidFill>
                          <a:latin typeface="Arial"/>
                        </a:rPr>
                        <a:t>(pVq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dddddd"/>
                          </a:solidFill>
                          <a:latin typeface="Arial"/>
                        </a:rPr>
                        <a:t>~((~p) </a:t>
                      </a:r>
                      <a:r>
                        <a:rPr b="0" lang="el-GR" sz="2000" spc="-1" strike="noStrike">
                          <a:solidFill>
                            <a:srgbClr val="dddddd"/>
                          </a:solidFill>
                          <a:latin typeface="Arial"/>
                          <a:ea typeface="Arial"/>
                        </a:rPr>
                        <a:t>Λ</a:t>
                      </a:r>
                      <a:r>
                        <a:rPr b="0" lang="en-US" sz="2000" spc="-1" strike="noStrike">
                          <a:solidFill>
                            <a:srgbClr val="dddddd"/>
                          </a:solidFill>
                          <a:latin typeface="Arial"/>
                          <a:ea typeface="Arial"/>
                        </a:rPr>
                        <a:t>(~q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dddddd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dddddd"/>
                          </a:solidFill>
                          <a:latin typeface="Arial"/>
                          <a:ea typeface="Arial"/>
                        </a:rPr>
                        <a:t>(~</a:t>
                      </a:r>
                      <a:r>
                        <a:rPr b="0" lang="ro-RO" sz="2000" spc="-1" strike="noStrike">
                          <a:solidFill>
                            <a:srgbClr val="dddddd"/>
                          </a:solidFill>
                          <a:latin typeface="Arial"/>
                          <a:ea typeface="Arial"/>
                        </a:rPr>
                        <a:t>p)</a:t>
                      </a:r>
                      <a:r>
                        <a:rPr b="0" lang="en-US" sz="2000" spc="-1" strike="noStrike">
                          <a:solidFill>
                            <a:srgbClr val="dddddd"/>
                          </a:solidFill>
                          <a:latin typeface="Arial"/>
                          <a:ea typeface="Arial"/>
                        </a:rPr>
                        <a:t>→</a:t>
                      </a:r>
                      <a:r>
                        <a:rPr b="0" lang="ro-RO" sz="2000" spc="-1" strike="noStrike">
                          <a:solidFill>
                            <a:srgbClr val="dddddd"/>
                          </a:solidFill>
                          <a:latin typeface="Arial"/>
                          <a:ea typeface="Arial"/>
                        </a:rPr>
                        <a:t>q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dddddd"/>
                          </a:solidFill>
                          <a:latin typeface="Arial"/>
                          <a:ea typeface="Arial"/>
                        </a:rPr>
                        <a:t>(p</a:t>
                      </a:r>
                      <a:r>
                        <a:rPr b="0" lang="el-GR" sz="2000" spc="-1" strike="noStrike">
                          <a:solidFill>
                            <a:srgbClr val="dddddd"/>
                          </a:solidFill>
                          <a:latin typeface="Arial"/>
                          <a:ea typeface="Arial"/>
                        </a:rPr>
                        <a:t>↓</a:t>
                      </a:r>
                      <a:r>
                        <a:rPr b="0" lang="ro-RO" sz="2000" spc="-1" strike="noStrike">
                          <a:solidFill>
                            <a:srgbClr val="dddddd"/>
                          </a:solidFill>
                          <a:latin typeface="Arial"/>
                          <a:ea typeface="Arial"/>
                        </a:rPr>
                        <a:t>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dddddd"/>
                          </a:solidFill>
                          <a:latin typeface="Arial"/>
                          <a:ea typeface="Arial"/>
                        </a:rPr>
                        <a:t>(p|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dddddd"/>
                          </a:solidFill>
                          <a:latin typeface="Arial"/>
                          <a:ea typeface="Arial"/>
                        </a:rPr>
                        <a:t>((p</a:t>
                      </a:r>
                      <a:r>
                        <a:rPr b="0" lang="el-GR" sz="2000" spc="-1" strike="noStrike">
                          <a:solidFill>
                            <a:srgbClr val="dddddd"/>
                          </a:solidFill>
                          <a:latin typeface="Arial"/>
                          <a:ea typeface="Arial"/>
                        </a:rPr>
                        <a:t>↓</a:t>
                      </a:r>
                      <a:r>
                        <a:rPr b="0" lang="ro-RO" sz="2000" spc="-1" strike="noStrike">
                          <a:solidFill>
                            <a:srgbClr val="dddddd"/>
                          </a:solidFill>
                          <a:latin typeface="Arial"/>
                          <a:ea typeface="Arial"/>
                        </a:rPr>
                        <a:t>q)</a:t>
                      </a:r>
                      <a:r>
                        <a:rPr b="0" lang="el-GR" sz="2000" spc="-1" strike="noStrike">
                          <a:solidFill>
                            <a:srgbClr val="dddddd"/>
                          </a:solidFill>
                          <a:latin typeface="Arial"/>
                          <a:ea typeface="Arial"/>
                        </a:rPr>
                        <a:t>↓</a:t>
                      </a:r>
                      <a:r>
                        <a:rPr b="0" lang="ro-RO" sz="2000" spc="-1" strike="noStrike">
                          <a:solidFill>
                            <a:srgbClr val="dddddd"/>
                          </a:solidFill>
                          <a:latin typeface="Arial"/>
                          <a:ea typeface="Arial"/>
                        </a:rPr>
                        <a:t>(p</a:t>
                      </a:r>
                      <a:r>
                        <a:rPr b="0" lang="el-GR" sz="2000" spc="-1" strike="noStrike">
                          <a:solidFill>
                            <a:srgbClr val="dddddd"/>
                          </a:solidFill>
                          <a:latin typeface="Arial"/>
                          <a:ea typeface="Arial"/>
                        </a:rPr>
                        <a:t>↓</a:t>
                      </a:r>
                      <a:r>
                        <a:rPr b="0" lang="ro-RO" sz="2000" spc="-1" strike="noStrike">
                          <a:solidFill>
                            <a:srgbClr val="dddddd"/>
                          </a:solidFill>
                          <a:latin typeface="Arial"/>
                          <a:ea typeface="Arial"/>
                        </a:rPr>
                        <a:t>q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dddddd"/>
                          </a:solidFill>
                          <a:latin typeface="Arial"/>
                          <a:ea typeface="Arial"/>
                        </a:rPr>
                        <a:t>((p</a:t>
                      </a:r>
                      <a:r>
                        <a:rPr b="0" lang="en-US" sz="2000" spc="-1" strike="noStrike">
                          <a:solidFill>
                            <a:srgbClr val="dddddd"/>
                          </a:solidFill>
                          <a:latin typeface="Arial"/>
                          <a:ea typeface="Arial"/>
                        </a:rPr>
                        <a:t>|</a:t>
                      </a:r>
                      <a:r>
                        <a:rPr b="0" lang="ro-RO" sz="2000" spc="-1" strike="noStrike">
                          <a:solidFill>
                            <a:srgbClr val="dddddd"/>
                          </a:solidFill>
                          <a:latin typeface="Arial"/>
                          <a:ea typeface="Arial"/>
                        </a:rPr>
                        <a:t>q)</a:t>
                      </a:r>
                      <a:r>
                        <a:rPr b="0" lang="en-US" sz="2000" spc="-1" strike="noStrike">
                          <a:solidFill>
                            <a:srgbClr val="dddddd"/>
                          </a:solidFill>
                          <a:latin typeface="Arial"/>
                          <a:ea typeface="Arial"/>
                        </a:rPr>
                        <a:t>|</a:t>
                      </a:r>
                      <a:r>
                        <a:rPr b="0" lang="ro-RO" sz="2000" spc="-1" strike="noStrike">
                          <a:solidFill>
                            <a:srgbClr val="dddddd"/>
                          </a:solidFill>
                          <a:latin typeface="Arial"/>
                          <a:ea typeface="Arial"/>
                        </a:rPr>
                        <a:t>(p</a:t>
                      </a:r>
                      <a:r>
                        <a:rPr b="0" lang="en-US" sz="2000" spc="-1" strike="noStrike">
                          <a:solidFill>
                            <a:srgbClr val="dddddd"/>
                          </a:solidFill>
                          <a:latin typeface="Arial"/>
                          <a:ea typeface="Arial"/>
                        </a:rPr>
                        <a:t>|</a:t>
                      </a:r>
                      <a:r>
                        <a:rPr b="0" lang="ro-RO" sz="2000" spc="-1" strike="noStrike">
                          <a:solidFill>
                            <a:srgbClr val="dddddd"/>
                          </a:solidFill>
                          <a:latin typeface="Arial"/>
                          <a:ea typeface="Arial"/>
                        </a:rPr>
                        <a:t>q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ţime adecvată de conec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T7.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,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}, {~, V}, {~, →}, {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}, {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}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sunt mulţimi adecvate de conecto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Arial"/>
                <a:ea typeface="Arial"/>
              </a:rPr>
              <a:t>I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219320" y="3200400"/>
          <a:ext cx="4038480" cy="26496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409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Forme logic echival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pVq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pVq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~</a:t>
                      </a:r>
                      <a:r>
                        <a:rPr b="0" lang="ro-RO" sz="20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~</a:t>
                      </a:r>
                      <a:r>
                        <a:rPr b="0" lang="ro-RO" sz="20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(p</a:t>
                      </a:r>
                      <a:r>
                        <a:rPr b="0" lang="el-GR" sz="20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Λ</a:t>
                      </a:r>
                      <a:r>
                        <a:rPr b="0" lang="ro-RO" sz="20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q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pVq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~((~p)</a:t>
                      </a:r>
                      <a:r>
                        <a:rPr b="0" lang="el-GR" sz="20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Λ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(~q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(~</a:t>
                      </a:r>
                      <a:r>
                        <a:rPr b="0" lang="ro-RO" sz="20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)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→</a:t>
                      </a:r>
                      <a:r>
                        <a:rPr b="0" lang="ro-RO" sz="20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q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(p</a:t>
                      </a:r>
                      <a:r>
                        <a:rPr b="0" lang="el-GR" sz="20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↓</a:t>
                      </a:r>
                      <a:r>
                        <a:rPr b="0" lang="ro-RO" sz="20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(p|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((p</a:t>
                      </a:r>
                      <a:r>
                        <a:rPr b="0" lang="el-GR" sz="20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↓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0" lang="ro-RO" sz="20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0" lang="el-GR" sz="20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↓</a:t>
                      </a:r>
                      <a:r>
                        <a:rPr b="0" lang="ro-RO" sz="20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q</a:t>
                      </a:r>
                      <a:r>
                        <a:rPr b="0" lang="el-GR" sz="20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↓</a:t>
                      </a:r>
                      <a:r>
                        <a:rPr b="0" lang="ro-RO" sz="20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q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((p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|p</a:t>
                      </a:r>
                      <a:r>
                        <a:rPr b="0" lang="ro-RO" sz="20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|</a:t>
                      </a:r>
                      <a:r>
                        <a:rPr b="0" lang="ro-RO" sz="20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q|</a:t>
                      </a:r>
                      <a:r>
                        <a:rPr b="0" lang="ro-RO" sz="2000" spc="-1" strike="noStrike">
                          <a:solidFill>
                            <a:srgbClr val="000099"/>
                          </a:solidFill>
                          <a:latin typeface="Arial"/>
                          <a:ea typeface="Arial"/>
                        </a:rPr>
                        <a:t>q)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crieţi algoritmul de construcţie a formei normale conjunctive logic echivalentă cu o formă propoziţională care nu este tautolog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(p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q)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r) este logic echivalentă cu forma normală conjunctivă 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((p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q)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~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q))) este logic echivalentă cu forma normală conjunctivă 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rătaţi valabilitatea tabelului dat ca indicaţie la T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dinalul mulţimii interpretărilor care satisfac forma (p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q)V(q→p) este 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Augustus de Morg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04240" y="1066680"/>
            <a:ext cx="1922400" cy="2338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 probl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este forma normală disjunctivă pentru formul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Fie K = {(p→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q), (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q)}. Indicaţi în care din interpretările de mai jos formulele din K au valori de adevăr opu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) v(p)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v(q)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b) v(p)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v(q)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c) v(p)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v(q)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âte interpretări validează toate formele r→q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s→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048120" y="1676520"/>
          <a:ext cx="2819160" cy="2278080"/>
        </p:xfrm>
        <a:graphic>
          <a:graphicData uri="http://schemas.openxmlformats.org/drawingml/2006/table">
            <a:tbl>
              <a:tblPr/>
              <a:tblGrid>
                <a:gridCol w="939600"/>
                <a:gridCol w="939960"/>
                <a:gridCol w="9396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are a contestant on a game show and are shown two doors.  Behind one door lies a brand new car.  Behind the other lies disqualification and years of shame.  You are told to use the messages on the doors to deduce where the prize i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Door 1 is written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sentence on Door 2 is true and the car is behind Door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On Door 2 is written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sentence on Door 1 is false and the car is behind Door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a truth table with the truth values of the sentences and a predicate d that is true iff the car is behind Door 1, crossing out impossible situations.  What can you deduce about the ca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you give your answer, the game show host says that there was a mistake, the messages should have bee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Door 1 is written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sentence on Door 2 is 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On Door 2 is written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sentence on Door 1 is false and the car is behind Door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a similar truth table for this situation.  Now what can you dedu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time after you give your answer, the game show host corrects the messages even further to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Door 1 is written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sentence on Door 2 is 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On Door 2 is written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sentence on Door 1 is fals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what can you deduce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ND. 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 compar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valorile din tabel cu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î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ţ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lesul propozi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ţ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ilor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ş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 se elimin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cele care nu coresp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. Trebuie deschis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U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Ş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638680" y="1523880"/>
          <a:ext cx="2590920" cy="4308480"/>
        </p:xfrm>
        <a:graphic>
          <a:graphicData uri="http://schemas.openxmlformats.org/drawingml/2006/table">
            <a:tbl>
              <a:tblPr/>
              <a:tblGrid>
                <a:gridCol w="838440"/>
                <a:gridCol w="939600"/>
                <a:gridCol w="81288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2&amp;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D1&amp;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974880" y="1712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i de substituţ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0000"/>
                </a:solidFill>
                <a:latin typeface="Arial"/>
              </a:rPr>
              <a:t>T1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 Fie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formă propoziţională în care apar variabilele propoziţionale p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…, p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 Fie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2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, …, 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200" spc="-1" strike="noStrike" baseline="-25000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forme propoziţionale. Fie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ţinută din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prin înlocuirea tuturor apariţiilor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cu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200" spc="-1" strike="noStrike" baseline="-25000">
                <a:solidFill>
                  <a:srgbClr val="000000"/>
                </a:solidFill>
                <a:latin typeface="Monotype Corsiv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i≤n)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. Dacă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este tautologie, atunci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este tautologie.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)) este tautologie, oricare ar fi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Arial"/>
                <a:ea typeface="Arial"/>
              </a:rPr>
              <a:t>Ind. Deoarece </a:t>
            </a:r>
            <a:r>
              <a:rPr b="0" lang="ro-RO" sz="2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~</a:t>
            </a:r>
            <a:r>
              <a:rPr b="0" lang="ro-RO" sz="2000" spc="-1" strike="noStrike">
                <a:solidFill>
                  <a:srgbClr val="000099"/>
                </a:solidFill>
                <a:latin typeface="Arial"/>
              </a:rPr>
              <a:t>(pVq)</a:t>
            </a:r>
            <a:r>
              <a:rPr b="0" lang="ro-RO" sz="2000" spc="-1" strike="noStrike">
                <a:solidFill>
                  <a:srgbClr val="000099"/>
                </a:solidFill>
                <a:latin typeface="Arial"/>
                <a:ea typeface="Arial"/>
              </a:rPr>
              <a:t>↔</a:t>
            </a:r>
            <a:r>
              <a:rPr b="0" lang="ro-RO" sz="2000" spc="-1" strike="noStrike">
                <a:solidFill>
                  <a:srgbClr val="000099"/>
                </a:solidFill>
                <a:latin typeface="Arial"/>
              </a:rPr>
              <a:t>((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~p</a:t>
            </a:r>
            <a:r>
              <a:rPr b="0" lang="ro-RO" sz="20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Λ</a:t>
            </a:r>
            <a:r>
              <a:rPr b="0" lang="ro-RO" sz="2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~</a:t>
            </a:r>
            <a:r>
              <a:rPr b="0" lang="ro-RO" sz="2000" spc="-1" strike="noStrike">
                <a:solidFill>
                  <a:srgbClr val="000099"/>
                </a:solidFill>
                <a:latin typeface="Arial"/>
                <a:ea typeface="Arial"/>
              </a:rPr>
              <a:t>q</a:t>
            </a:r>
            <a:r>
              <a:rPr b="0" lang="ro-RO" sz="2000" spc="-1" strike="noStrike">
                <a:solidFill>
                  <a:srgbClr val="000099"/>
                </a:solidFill>
                <a:latin typeface="Arial"/>
              </a:rPr>
              <a:t>))) este tautologie; verificare prin tabelul de adevăr (Curs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i de substituţ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T2.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Fie 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forme propoziţionale logic echivalente. Fie 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6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ormă propoziţională. Fie 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1" lang="ro-RO" sz="3600" spc="-1" strike="noStrike" baseline="-25000">
                <a:solidFill>
                  <a:srgbClr val="000000"/>
                </a:solidFill>
                <a:latin typeface="Monotype Corsiva"/>
                <a:ea typeface="Arial"/>
              </a:rPr>
              <a:t>1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obţinută din 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6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prin înlocuirea tuturor apariţiilor lui 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cu 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Atunci 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6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este logic echivalentă cu 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1" lang="ro-RO" sz="3600" spc="-1" strike="noStrike" baseline="-25000">
                <a:solidFill>
                  <a:srgbClr val="000000"/>
                </a:solidFill>
                <a:latin typeface="Monotype Corsiva"/>
                <a:ea typeface="Arial"/>
              </a:rPr>
              <a:t>1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((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  <a:ea typeface="Arial"/>
              </a:rPr>
              <a:t>~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((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  <a:ea typeface="Arial"/>
              </a:rPr>
              <a:t>~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 p)Vq))Vr) este logic echivalentă cu ((p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  <a:ea typeface="Arial"/>
              </a:rPr>
              <a:t>→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q) 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  <a:ea typeface="Arial"/>
              </a:rPr>
              <a:t>→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dddddd"/>
                </a:solidFill>
                <a:latin typeface="Arial"/>
              </a:rPr>
              <a:t>Ind. Deoarece ((</a:t>
            </a: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~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</a:rPr>
              <a:t> p)Vq)) este logic echivalentă cu (p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  <a:ea typeface="Arial"/>
              </a:rPr>
              <a:t>→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</a:rPr>
              <a:t>q); verificare prin tabelul de adevăr (Curs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i de substituţ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T2.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Fie 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forme propoziţionale logic echivalente. Fie 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6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ormă propoziţională. Fie 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1" lang="ro-RO" sz="3600" spc="-1" strike="noStrike" baseline="-25000">
                <a:solidFill>
                  <a:srgbClr val="000000"/>
                </a:solidFill>
                <a:latin typeface="Monotype Corsiva"/>
                <a:ea typeface="Arial"/>
              </a:rPr>
              <a:t>1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obţinută din 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6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prin înlocuirea tuturor apariţiilor lui 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cu 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Atunci 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6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este logic echivalentă cu 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1" lang="ro-RO" sz="3600" spc="-1" strike="noStrike" baseline="-25000">
                <a:solidFill>
                  <a:srgbClr val="000000"/>
                </a:solidFill>
                <a:latin typeface="Monotype Corsiva"/>
                <a:ea typeface="Arial"/>
              </a:rPr>
              <a:t>1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((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~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((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~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p)Vq))Vr) este logic echivalentă cu ((p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  <a:ea typeface="Arial"/>
              </a:rPr>
              <a:t>→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q)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  <a:ea typeface="Arial"/>
              </a:rPr>
              <a:t>→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dddddd"/>
                </a:solidFill>
                <a:latin typeface="Arial"/>
              </a:rPr>
              <a:t>Ind. Deoarece ((</a:t>
            </a: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~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</a:rPr>
              <a:t> p)Vq)) este logic echivalentă cu (p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  <a:ea typeface="Arial"/>
              </a:rPr>
              <a:t>→</a:t>
            </a:r>
            <a:r>
              <a:rPr b="0" lang="ro-RO" sz="2000" spc="-1" strike="noStrike">
                <a:solidFill>
                  <a:srgbClr val="dddddd"/>
                </a:solidFill>
                <a:latin typeface="Arial"/>
              </a:rPr>
              <a:t>q); verificare prin tabelul de adevăr (Curs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i de substituţ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T2.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Fie 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forme propoziţionale logic echivalente. Fie 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6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ormă propoziţională. Fie 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1" lang="ro-RO" sz="3600" spc="-1" strike="noStrike" baseline="-25000">
                <a:solidFill>
                  <a:srgbClr val="000000"/>
                </a:solidFill>
                <a:latin typeface="Monotype Corsiva"/>
                <a:ea typeface="Arial"/>
              </a:rPr>
              <a:t>1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obţinută din 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6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prin înlocuirea tuturor apariţiilor lui 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cu 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Atunci 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6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este logic echivalentă cu 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1" lang="ro-RO" sz="3600" spc="-1" strike="noStrike" baseline="-25000">
                <a:solidFill>
                  <a:srgbClr val="000000"/>
                </a:solidFill>
                <a:latin typeface="Monotype Corsiva"/>
                <a:ea typeface="Arial"/>
              </a:rPr>
              <a:t>1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)Vq))Vr) este logic echivalentă cu ((p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q)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Arial"/>
              </a:rPr>
              <a:t>Ind. Deoarece ((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~</a:t>
            </a:r>
            <a:r>
              <a:rPr b="0" lang="ro-RO" sz="2000" spc="-1" strike="noStrike">
                <a:solidFill>
                  <a:srgbClr val="000099"/>
                </a:solidFill>
                <a:latin typeface="Arial"/>
              </a:rPr>
              <a:t>p)Vq)) este logic echivalentă cu (p</a:t>
            </a:r>
            <a:r>
              <a:rPr b="0" lang="ro-RO" sz="2000" spc="-1" strike="noStrike">
                <a:solidFill>
                  <a:srgbClr val="000099"/>
                </a:solidFill>
                <a:latin typeface="Arial"/>
                <a:ea typeface="Arial"/>
              </a:rPr>
              <a:t>→</a:t>
            </a:r>
            <a:r>
              <a:rPr b="0" lang="ro-RO" sz="2000" spc="-1" strike="noStrike">
                <a:solidFill>
                  <a:srgbClr val="000099"/>
                </a:solidFill>
                <a:latin typeface="Arial"/>
              </a:rPr>
              <a:t>q); verificare prin tabelul de adevăr (Curs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e propoziţionale restricţion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ormele propoziţional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restricţion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sunt alcătuite utilizând numai conectori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T3.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Fie 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orm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propoz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iţională restricţionată.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Fie 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*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orma propoziţională restricţionată obţinută din 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prin interschimbarea V cu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şi a variabilelor propoziţionale cu negaţia l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Atunci 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*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este logic echivalentă cu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e propoziţionale restricţion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17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T4 Legile lui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d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e Morgan.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ie 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6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, …,  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600" spc="-1" strike="noStrike" baseline="-25000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orme propoziţionale.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Atun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316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(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6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)V … V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600" spc="-1" strike="noStrike" baseline="-25000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)) este logic echivalentă cu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6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…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600" spc="-1" strike="noStrike" baseline="-25000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316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(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6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…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600" spc="-1" strike="noStrike" baseline="-25000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)) este logic echivalentă cu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600" spc="-1" strike="noStrike" baseline="-25000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V … V</a:t>
            </a:r>
            <a:r>
              <a:rPr b="1" lang="ro-RO" sz="36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1" lang="ro-RO" sz="3600" spc="-1" strike="noStrike" baseline="-25000">
                <a:solidFill>
                  <a:srgbClr val="000000"/>
                </a:solidFill>
                <a:latin typeface="Monotype Corsiva"/>
              </a:rPr>
              <a:t>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Augustus de Morgan, 1806-18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matematician şi logician britan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Augustus de Morg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72480" y="4419720"/>
            <a:ext cx="181116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19:06:24Z</dcterms:created>
  <dc:creator>Adela</dc:creator>
  <dc:description/>
  <dc:language>en-US</dc:language>
  <cp:lastModifiedBy>cerasela</cp:lastModifiedBy>
  <dcterms:modified xsi:type="dcterms:W3CDTF">2015-10-03T05:13:43Z</dcterms:modified>
  <cp:revision>101</cp:revision>
  <dc:subject/>
  <dc:title>LOGICA PROPOZIŢIONALĂ  Propoziţii şi conectori. Funcţii de  adevăr. Tabele de adevăr.  Forme propoziţionale.</dc:title>
</cp:coreProperties>
</file>