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CD2-2C1E-4FDB-BEF4-5CF56ADF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64D-EAFB-4C1A-A0C6-4E19AF3D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6551-720E-4905-83EF-5F582D8C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A36-B423-42F3-BB5D-107BACD2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D2D-FC84-429A-BB69-58199036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1C56-EDB1-4050-A2DC-7E717096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3F2-EFF7-4DFB-8585-A80E660C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9CA-96B0-4755-8FFD-1343B178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E77-2D52-45A4-925C-E95ED8C4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4CF-369B-48FF-8C73-AB0070CA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FBEA-8729-4D63-9039-1AE58B64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7A4-0DB2-4C01-85B2-4AFB9B8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9AF-1B5B-4412-9F05-591810F28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logic.stanford.edu/logica/php/babbage.php" TargetMode="External"/><Relationship Id="rId2" Type="http://schemas.openxmlformats.org/officeDocument/2006/relationships/hyperlink" Target="http://logic.stanford.edu/logica/php/index.php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E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 PROPOZIŢIONAL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poz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conectori. Funcţii d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e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. Tabele de ade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e propoziţion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CA COMPUTA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AL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rs 1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 şi Curs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40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duc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du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 de la particular la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 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t 1000 de ciori neg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am 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t nicio cioa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e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 fi fost neag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ciorile sunt negre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038480"/>
            <a:ext cx="7238880" cy="1905120"/>
          </a:xfrm>
          <a:prstGeom prst="downArrowCallout">
            <a:avLst>
              <a:gd name="adj1" fmla="val 95001"/>
              <a:gd name="adj2" fmla="val 94992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40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duc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du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 de la cauze la efec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 are combustibil,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 nu por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jiile nu fun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eaz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 nu por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zervorul este plin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 nu por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m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jii!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200400"/>
            <a:ext cx="7238880" cy="2743200"/>
          </a:xfrm>
          <a:prstGeom prst="downArrowCallout">
            <a:avLst>
              <a:gd name="adj1" fmla="val 65977"/>
              <a:gd name="adj2" fmla="val 65971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7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40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alog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du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 prin similari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is like a day in parad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on't need an umbr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038480"/>
            <a:ext cx="4343400" cy="1143000"/>
          </a:xfrm>
          <a:prstGeom prst="downArrowCallout">
            <a:avLst>
              <a:gd name="adj1" fmla="val 95009"/>
              <a:gd name="adj2" fmla="val 95000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8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mal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cupă de studiul sistematic al adevărulu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iecte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u care ea operează sunt propoziţiile şi predicatele, iar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jloacele de luc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tilizate sunt limbajul şi regulile de deducţ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 precis, logica operează c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ţii, propoziţii, predicate, operatori logici, cuantificatori şi reguli de deducţ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i fundamentale ale logic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identităţ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într-o deducţie, noţiunile au câte un singur 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non-contradicţ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o propoziţie nu poate fi simultan adevărata şi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terţului exc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o propoziţie nu poate fi altfel decât adevărata sau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raţiunii 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exceptând axiomele, afirmaţiile adevărate trebuie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i fundamentale ale logic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identităţ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într-o deducţie, noţiunile au câte un singur 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non-contradicţ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o propoziţie nu poate fi simultan adevărata şi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terţului exc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o propoziţie nu poate fi altfel decât adevărata sau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raţiunii 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exceptând axiomele, afirmaţiile adevărate trebuie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i fundamentale ale logic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identităţ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tr-o deducţie, noţiunile au câte un singur 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non-contradicţ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 propoziţie nu poate fi simultan adevărată şi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terţului exc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o propoziţie nu poate fi altfel decât adevărata sau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raţiunii 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exceptând axiomele, afirmaţiile adevărate trebuie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i fundamentale ale logic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identităţ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tr-o deducţie, noţiunile au câte un singur 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non-contradicţ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poziţie nu poate fi simultan adevărată şi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terţului exc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 propoziţie nu poate fi altfel decât adevărată sau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raţiunii 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exceptând axiomele, afirmaţiile adevărate trebuie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i fundamentale ale logic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identităţ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într-o deducţie, noţiunile au câte un singur s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non-contradicţi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poziţie nu poate fi simultan adevărată şi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terţului exc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poziţie nu poate fi altfel decât adevărată sau fals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ul raţiunii 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xceptând axiomele, afirmaţiile adevărate trebuie demon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 formală este versiunea formală a logicii uma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 formală oferă un limbaj formal, cu sintaxă şi semantică precise, pentru a defini clar construcţiile şi regulile de deducţ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Logica computaţion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Logica computaţională integrează logica formală cu informa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Logica computaţională utilizează calculatoarele în a rezolva probleme care sunt formulate in limbajul logicii formale. De aceea, în plus faţă de corectitudinea deducţiei, se urmăreşte şi optimizarea resurse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mul procesează informaţii, pentru a-şi atinge scopur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mul lucrează cu fap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Cubul roşu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ste pe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cubul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Cubul verde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ste mai sus de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cubul albast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Cubul verde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nu este pe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cubul gal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Cubul galben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este pe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cubul verde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sau pe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cubul albast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2400" spc="-1" strike="noStrike">
                <a:solidFill>
                  <a:srgbClr val="000000"/>
                </a:solidFill>
                <a:latin typeface="Arial"/>
              </a:rPr>
              <a:t>Avem</a:t>
            </a: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 şi un cub neg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Arial"/>
              </a:rPr>
              <a:t>Care este ordinea celor 5 cuburi, de jos în su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</a:t>
            </a: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orm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 formală este versiunea formală a logicii uma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 formală oferă un limbaj formal, cu sintaxă şi semantică precise, pentru a defini clar construcţiile şi regulile de deducţ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Logica computaţional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ogica computaţională integrează logica formală cu informat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ogica computaţională utilizează calculatoarele în a rezolva probleme care sunt formulate în limbajul logicii formale. De aceea, în plus faţă de corectitudinea deducţiei, se urmăreşte şi optimizarea resurse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</a:t>
            </a: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ro-RO" sz="3200" spc="-1" strike="noStrike">
                <a:solidFill>
                  <a:srgbClr val="dddddd"/>
                </a:solidFill>
                <a:latin typeface="Arial"/>
              </a:rPr>
              <a:t>declarative – studiate </a:t>
            </a:r>
            <a:r>
              <a:rPr b="0" lang="en-US" sz="3200" spc="-1" strike="noStrike">
                <a:solidFill>
                  <a:srgbClr val="dddddd"/>
                </a:solidFill>
                <a:latin typeface="Arial"/>
                <a:ea typeface="Arial"/>
              </a:rPr>
              <a:t>î</a:t>
            </a:r>
            <a:r>
              <a:rPr b="0" lang="ro-RO" sz="3200" spc="-1" strike="noStrike">
                <a:solidFill>
                  <a:srgbClr val="dddddd"/>
                </a:solidFill>
                <a:latin typeface="Arial"/>
              </a:rPr>
              <a:t>n acest 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apoleon a mu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rin s-a împrumutat de la Mi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lte propoziţii </a:t>
            </a:r>
            <a:r>
              <a:rPr b="0" lang="ro-RO" sz="3200" spc="-1" strike="noStrike">
                <a:solidFill>
                  <a:srgbClr val="dddddd"/>
                </a:solidFill>
                <a:latin typeface="Arial"/>
              </a:rPr>
              <a:t>– neconsiderate a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 locuri, fii gata, sta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ş putea afla când e următorul tren spre Paşca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ţi doresc o notă mare la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c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e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i mare decât 2 este suma a două numere prime. (conjectura lui Goldb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9</a:t>
            </a: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declarative – studiate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î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n acest 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apoleon a mu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rin s-a împrumutat de la Mi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lte propoziţii </a:t>
            </a:r>
            <a:r>
              <a:rPr b="0" lang="ro-RO" sz="3200" spc="-1" strike="noStrike">
                <a:solidFill>
                  <a:srgbClr val="dddddd"/>
                </a:solidFill>
                <a:latin typeface="Arial"/>
              </a:rPr>
              <a:t>– neconsiderate a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 locuri, fii gata, sta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ş putea afla când e următorul tren spre Paşca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ţi doresc o notă mare la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c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e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i mare decât 2 este suma a două numere prime. (conjectura lui Goldb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</a:t>
            </a: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poziţii declarative – studi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n acest 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apoleon a mur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rin s-a împrumutat de la Mih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lte propoziţii 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– neconsiderate a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 locuri, fii gata, star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ş putea afla când e următorul tren spre Paşcan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ţi doresc o notă mare la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c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e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mai mare decât 2 este suma a două numere prime. (conjectura lui Goldb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2</a:t>
            </a: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orm Principiului identităţii, simbolurile au înţelesuri şi utilizări prec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poziţ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o unitate primitivă variabil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(adică poate fi adevărată sau fals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finiţ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e o declaraţie că un nou simbol (sau un nou grup de simboluri) este acelaşi lucru cu o altă combinaţie de simboluri, cu sens deja cunoscut. Trebuie să fi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nsistent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(de ex. o funcţie este bijectivă dacă este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injectivă şi surjectiv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</a:t>
            </a: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form Principiului identităţii, simbolurile au înţelesuri şi utilizări prec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Propozi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unitate primitivă variabil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(adică poate fi adevărată sau fals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fini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declaraţie că un nou simbol (sau un nou grup de simboluri) este acelaşi lucru cu o altă combinaţie de simboluri, cu sens deja cunoscut. Trebuie să fie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consistent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(de ex. o funcţie este bijectivă dacă este 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injectivă şi surjectiv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Există un astfel de obiect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?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3</a:t>
            </a: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nform Principiului identităţii, simbolurile au înţelesuri şi utilizări preci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Propozi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unitate primitivă variabil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adică poate fi adevărată sau fals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fini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declaraţie că un nou simbol (sau un nou grup de simboluri) este acelaşi lucru cu o altă combinaţie de simboluri, cu sens deja cunoscut. Trebuie să fie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consistent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(de ex. o funcţie este 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bijectivă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 dacă este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injectivă şi surjectiv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Există un astfel de obiect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76720" y="5029200"/>
            <a:ext cx="220968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0</a:t>
            </a: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zi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apoleon a murit.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Marin s-a împrumutat de la Mihai.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ac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x=0, atunci x*3+5=6. 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</a:t>
            </a: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zi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poleon a murit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rin s-a împrumutat de la Mihai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Dac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 x=0, atunci x*3+5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</a:t>
            </a: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zi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poleon a muri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n s-a împrumutat de la Miha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ac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x=0, atunci x*3+5=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4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 este întotdeauna evident răspuns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hiar dacă este specificat un răspuns, nu e întotdeauna evidentă corectitudinea 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mul construieşte o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demonstraţ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care constă din concluzii intermediare, în care fiecare pas este ev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1 şi 4: 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Cubul galben </a:t>
            </a:r>
            <a:r>
              <a:rPr b="1" i="1" lang="ro-RO" sz="2400" spc="-1" strike="noStrike">
                <a:solidFill>
                  <a:srgbClr val="dddddd"/>
                </a:solidFill>
                <a:latin typeface="Arial"/>
              </a:rPr>
              <a:t>este pe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 cubul albastru.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</a:t>
            </a: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pozi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se notează cu litere mari: A, B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p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se scriu c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alte propozi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ddd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conectori (trebuie definiţ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(C 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→ D), (A → (F 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 G))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</a:t>
            </a: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pozi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notează cu litere mari: A, B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omp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se scriu c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alte propoziţ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conectori (trebuie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 definiţi!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(C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→ D), (A → (F 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 G))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5</a:t>
            </a: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ziţii comp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→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2+5=6.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→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=0, atunci z*3+5=6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</a:rPr>
              <a:t>(F </a:t>
            </a:r>
            <a:r>
              <a:rPr b="0" lang="en-US" sz="2000" spc="-1" strike="noStrike">
                <a:solidFill>
                  <a:srgbClr val="dddddd"/>
                </a:solidFill>
                <a:latin typeface="Arial"/>
                <a:ea typeface="Arial"/>
              </a:rPr>
              <a:t>→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Formă propoziţională: forma comună pe care o au propoziţiile comp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Formele propoziţionale permit deducţ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Formele propoziţionale se construiesc din variabile propoziţionale (înlocuiesc propoziţiile simple şi se notează cu litere mici) şi conec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(p → 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6</a:t>
            </a: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ziţii comp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2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=0, atunci z*3+5=6.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F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→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Formă propoziţională: forma comună pe care o au propoziţiile comp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Formele propoziţionale permit deducţ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Formele propoziţionale se construiesc din variabile propoziţionale (înlocuiesc propoziţiile simple şi se notează cu litere mici) şi conec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(p → 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6</a:t>
            </a: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ziţii comp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2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=0, atunci z*3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rmă propoziţională: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orma comună pe care o au propoziţiile comp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ormele propoziţionale permi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deducţia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Formele propoziţionale se construiesc d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ariabile propoziţional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înlocuiesc propoziţiile simple şi se notează cu litere mici) şi conec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(p → 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6</a:t>
            </a: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poziţi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 conect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ziţii comp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3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=0, atunci x*2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=0, atunci z*3+5=6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 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rmă propoziţional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forma comună pe care o au propoziţiile comp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ele propoziţionale permit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deducţ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ele propoziţionale se construiesc d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ariabile propoziţion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înlocuiesc propoziţiile simple şi se notează cu litere mici) şi conec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(p → 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6</a:t>
            </a: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ebra Boole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eorge Boole, matematician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filosof englez 1815-18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algebr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 Boo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este o mu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me nevid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zestr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 legi de compoz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e, no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Λ (şi), V (sau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o aplicaţie a mulţimii consider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î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n ea insăşi, notată cu ~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are au următoarele proprietăţ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-    Idempotenţ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x V x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omutativi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Asociativit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(y Λ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x Λ y) Λ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V (y V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x V y) V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vitat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(y V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x Λ y) V (x Λ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V (y Λ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x V y) Λ (x V 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xistă un element 0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0 = 0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V 0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xistă un element 1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1 = 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V 1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Legea dublei negaţi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~(~x)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rincipiu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-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contradicţie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Λ ~(x)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rincipiul terţului excl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V ~(x)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Legile lui de Morg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~(x Λ y) = ~(x) V ~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~(x V y) = ~(x) Λ ~(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8880" y="4524480"/>
            <a:ext cx="190512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</a:t>
            </a: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ţii de adevă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junc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ţ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la implicaţie (echivalenţ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 va defini prin enumerarea valorilor de adevăr posibile pentru variabilele propoziţion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8</a:t>
            </a: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ţii de adevă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egaţ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peratoru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 se ap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ă unei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A,F}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5880" y="4191120"/>
          <a:ext cx="1905120" cy="17096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67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9</a:t>
            </a: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ţii de adevă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. Conjuncţ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peratoru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 ap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ă unei perechi de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A,F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F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A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F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486400" y="4132440"/>
          <a:ext cx="2933640" cy="2573280"/>
        </p:xfrm>
        <a:graphic>
          <a:graphicData uri="http://schemas.openxmlformats.org/drawingml/2006/table">
            <a:tbl>
              <a:tblPr/>
              <a:tblGrid>
                <a:gridCol w="977760"/>
                <a:gridCol w="977760"/>
                <a:gridCol w="97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el-GR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Λ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 este întotdeauna evident răspuns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hiar dacă este specificat un răspuns, nu e întotdeauna evidentă corectitudinea l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mul construieşte o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demonstraţi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care constă din concluzii intermediare, în care fiecare pas este evi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1 şi 4: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ubul galben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este pe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cubul albastru. (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</a:t>
            </a: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ţii de adevă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3. Disjuncţ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peratorul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 ap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ă unei perechi de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A,F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F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81480" y="4132440"/>
          <a:ext cx="3504960" cy="257328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r>
                        <a:rPr b="0" lang="ro-RO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V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1</a:t>
            </a: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ţii de adevă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mplicaţ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u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se aplică unei perechi de variabile propoziţionale. Prima variabilă se numeş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ipotez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 doua variabilă se numeşt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"/>
              </a:rPr>
              <a:t>concluz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{A,F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A,F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F,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257800" y="4114800"/>
          <a:ext cx="3657600" cy="26337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</a:t>
            </a: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ţii de adevă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e de adevă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5. Dubla implicaţie (echivalenţ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peratoru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e apl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ă unei perechi de variabil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ezultatul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funcţi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Sau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tabel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A,F}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→ {A,F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A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A,F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A)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F,F)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257800" y="4114800"/>
          <a:ext cx="3657600" cy="26337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 </a:t>
                      </a: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3</a:t>
            </a: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de tab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  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b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)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4</a:t>
            </a: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    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b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      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e de tab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5</a:t>
            </a: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Forma propoziţ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expresie alcătuită din  variabile propoziţionale şi conectori, după următoarele regul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rice variabilă propoziţională este o formă propoziţional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a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unt forme propoziţionale, atunci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, (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sunt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e propoziţion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Complexitatea 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unei forme propoziţionale este numărul de conectori ai acest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Complexitatea nu depinde de numărul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/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poziţia paranteze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</a:t>
            </a: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Forma propoziţion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 expresie alcătuită din  variabile propoziţionale şi conectori, după următoarele regul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rice variabilă propoziţională este o formă propoziţional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acă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sunt forme propoziţionale, atunci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,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, (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sunt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orme propoziţion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lexitat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unei forme propoziţionale este numărul de conectori ai acest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Complexitatea nu depinde de numărul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poziţia paranteze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6</a:t>
            </a: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orice formă propoziţională se poate construi funcţia (şi tabelul) de adevă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ărul de variabile propoziţionale distincte care apar în forma propoziţională dă numărul de argumente ale funcţiei de adevă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entru o formă propoziţională cu 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variabile propoziţionale distinc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funcţia de adevăr are 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argum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abelul de adevăr are ___ lin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unt ___ funcţii de adevăr distincte cu 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rgumen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</a:t>
            </a: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orice formă propoziţională se poate construi funcţia (şi tabelul) de adevă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ărul de variabile propoziţionale distincte care apar în forma propoziţională dă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umărul de argu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e funcţiei de adevă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ntru o formă propoziţională cu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variab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poziţionale distinc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uncţia de adevăr are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argu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abelul de adevăr are ___ lin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unt ___ funcţii de adevăr distincte cu 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rgumen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</a:t>
            </a: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orice formă propoziţională se poate construi funcţia (şi tabelul) de adevă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ărul de variabile propoziţionale distincte care apar în forma propoziţională dă numărul de argumente ale funcţiei de adevă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ru o formă propoziţională c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abile propoziţionale distinc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ţia de adevăr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belul de adevăr are ___ lin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Sunt ___ funcţii de adevăr distincte cu </a:t>
            </a:r>
            <a:r>
              <a:rPr b="0" i="1" lang="en-US" sz="2800" spc="-1" strike="noStrike">
                <a:solidFill>
                  <a:srgbClr val="dddddd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rgumen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 rezolva probleme, omul manevrează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log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ţii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complex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lucrează cu negaţii, constrângeri, alternative, nefiind preocupat de detal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Maşina roşie </a:t>
            </a:r>
            <a:r>
              <a:rPr b="1" i="1" lang="ro-RO" sz="2400" spc="-1" strike="noStrike">
                <a:solidFill>
                  <a:srgbClr val="dddddd"/>
                </a:solidFill>
                <a:latin typeface="Arial"/>
              </a:rPr>
              <a:t>este în stânga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 maşinii ver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Maşina verde </a:t>
            </a:r>
            <a:r>
              <a:rPr b="1" i="1" lang="ro-RO" sz="2400" spc="-1" strike="noStrike">
                <a:solidFill>
                  <a:srgbClr val="dddddd"/>
                </a:solidFill>
                <a:latin typeface="Arial"/>
              </a:rPr>
              <a:t>este către stânga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 maşinii alb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Maşina verde </a:t>
            </a:r>
            <a:r>
              <a:rPr b="1" i="1" lang="ro-RO" sz="2400" spc="-1" strike="noStrike">
                <a:solidFill>
                  <a:srgbClr val="dddddd"/>
                </a:solidFill>
                <a:latin typeface="Arial"/>
              </a:rPr>
              <a:t>nu este în stânga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 maşinii gal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Maşina galbenă </a:t>
            </a:r>
            <a:r>
              <a:rPr b="1" i="1" lang="ro-RO" sz="2400" spc="-1" strike="noStrike">
                <a:solidFill>
                  <a:srgbClr val="dddddd"/>
                </a:solidFill>
                <a:latin typeface="Arial"/>
              </a:rPr>
              <a:t>este în stânga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 maşinii verzi </a:t>
            </a:r>
            <a:r>
              <a:rPr b="1" i="1" lang="ro-RO" sz="2400" spc="-1" strike="noStrike">
                <a:solidFill>
                  <a:srgbClr val="dddddd"/>
                </a:solidFill>
                <a:latin typeface="Arial"/>
              </a:rPr>
              <a:t>sau în stânga</a:t>
            </a: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 maşinii alb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ddddd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Este parcată şi o maşină neagr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dddddd"/>
                </a:solidFill>
                <a:latin typeface="Arial"/>
              </a:rPr>
              <a:t>Care este ordinea celor 5 maşini, de la stânga la dreapta</a:t>
            </a:r>
            <a:r>
              <a:rPr b="0" i="1" lang="en-US" sz="2400" spc="-1" strike="noStrike">
                <a:solidFill>
                  <a:srgbClr val="dddddd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</a:t>
            </a: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rice formă propoziţională se poate construi funcţia (şi tabelul) de adevă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umărul de variabile propoziţionale distincte care apar în forma propoziţională dă numărul de argumente ale funcţiei de adevă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o formă propoziţională cu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variabile propoziţionale distinc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uncţia de adevăr are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rgum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abelul de adevăr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in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Sunt _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__ funcţii de adevăr distincte cu </a:t>
            </a:r>
            <a:r>
              <a:rPr b="0" i="1" lang="ro-RO" sz="2800" spc="-1" strike="noStrike">
                <a:solidFill>
                  <a:srgbClr val="000099"/>
                </a:solidFill>
                <a:latin typeface="Arial"/>
              </a:rPr>
              <a:t>n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argumente.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7</a:t>
            </a: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cedenţa conecto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guli de gru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Ordi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ive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na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nivel scăz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2. La priorităţi egale, se grupează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âng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Vq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r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((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)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((~(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))Vq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))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Nu se poate renunţa întotdeauna la parante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8</a:t>
            </a: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cedenţa conecto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guli de gru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Ordi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ive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na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nivel scăz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2. La priorităţi egale, se grupează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âng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p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~~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pVq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r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 (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((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p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((~(~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p))Vq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))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Nu se poate renunţa întotdeauna la parante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8</a:t>
            </a: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ecedenţa conectori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guli de gru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Ordi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nivel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înal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nivel scăz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2. La priorităţi egale, se grupează l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âng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Vq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(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(~(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))V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Nu se poate renunţa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întotdeauna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 la parante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8</a:t>
            </a:r>
          </a:p>
        </p:txBody>
      </p:sp>
    </p:spTree>
  </p:cSld>
  <p:transition spd="med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A pentru orice interpretare a variabilelor propoziţionale din care este constituită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F pentru orice interpretare a variabilelor propoziţionale din care este constituită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(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Există forme propoziţionale care nu sunt nici tautologii, nici contradicţii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9</a:t>
            </a:r>
          </a:p>
        </p:txBody>
      </p:sp>
    </p:spTree>
  </p:cSld>
  <p:transition spd="med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A pentru orice interpretare a variabilelor propoziţionale din care este constituită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F pentru orice interpretare a variabilelor propoziţionale din care este constituită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(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Există forme propoziţionale care nu sunt nici tautologii, nici contradicţii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? (Conting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9</a:t>
            </a:r>
          </a:p>
        </p:txBody>
      </p:sp>
    </p:spTree>
  </p:cSld>
  <p:transition spd="med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A pentru orice interpretare a variabilelor propoziţionale din care este constituită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F pentru orice interpretare a variabilelor propoziţionale din care este constituită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(~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Există forme propoziţionale care nu sunt nici tautologii, nici contradicţii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? (Conting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9</a:t>
            </a:r>
          </a:p>
        </p:txBody>
      </p:sp>
    </p:spTree>
  </p:cSld>
  <p:transition spd="med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A pentru orice interpretare a variabilelor propoziţionale din care este constituită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formă propoziţională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acă ia valoarea F pentru orice interpretare a variabilelor propoziţionale din care este constituită.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(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)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Există forme propoziţionale care nu sunt nici tautologii, nici contradicţii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? (Continge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9</a:t>
            </a:r>
          </a:p>
        </p:txBody>
      </p:sp>
    </p:spTree>
  </p:cSld>
  <p:transition spd="med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mple de taut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q ↔ q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q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) ↔ (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q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nalog pentru disjuncţ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q V p) ↔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q V r) ↔ (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q) V (p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(p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(q) ↔ ~(p V q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(~p) ↔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↔ q ↔ (p → q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q → 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 → q ↔ (~p) V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0</a:t>
            </a:r>
          </a:p>
        </p:txBody>
      </p:sp>
    </p:spTree>
  </p:cSld>
  <p:transition spd="med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2819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693432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1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ntru a rezolva probleme, omul manevrează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logi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ţii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complex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lucrează cu negaţii, constrângeri, alternative, nefiind preocupat de detal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Maşina roşie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este în stânga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maşinii ver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Maşina verde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este către stânga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maşinii alb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Maşina verde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nu este în stânga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maşinii gal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Maşina galbenă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este în stânga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maşinii verzi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sau în stânga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maşinii alba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o-RO" sz="2400" spc="-1" strike="noStrike">
                <a:solidFill>
                  <a:srgbClr val="000099"/>
                </a:solidFill>
                <a:latin typeface="Arial"/>
              </a:rPr>
              <a:t>Este</a:t>
            </a: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 parcată şi o maşină neagr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99"/>
                </a:solidFill>
                <a:latin typeface="Arial"/>
              </a:rPr>
              <a:t>Care este ordinea celor 5 maşini, de la stânga la dreapta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09520" y="2895480"/>
            <a:ext cx="762120" cy="144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2895480"/>
            <a:ext cx="228600" cy="1905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723920" y="2895480"/>
            <a:ext cx="129564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4</a:t>
            </a:r>
          </a:p>
        </p:txBody>
      </p:sp>
    </p:spTree>
  </p:cSld>
  <p:transition spd="med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implică logi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este 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</a:rPr>
              <a:t>(p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 implică logic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este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 logic echivalent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↔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este tautolo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(pVq) este logic echivalentă cu (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) 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2</a:t>
            </a:r>
          </a:p>
        </p:txBody>
      </p:sp>
    </p:spTree>
  </p:cSld>
  <p:transition spd="med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implică logi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este 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(p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) implică logic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este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 logic echivalent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↔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este tautolo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(pVq) este logic echivalentă cu (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p) </a:t>
            </a:r>
            <a:r>
              <a:rPr b="0" lang="el-GR" sz="2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dddddd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2</a:t>
            </a:r>
          </a:p>
        </p:txBody>
      </p:sp>
    </p:spTree>
  </p:cSld>
  <p:transition spd="med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 propoziţ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forme propoziţion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implică logic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este tautolog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q) implică logic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punem că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este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 logic echivalentă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cu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↔</a:t>
            </a:r>
            <a:r>
              <a:rPr b="1" lang="ro-RO" sz="32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este tautolog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(pVq) este logic echivalentă cu ((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p)</a:t>
            </a:r>
            <a:r>
              <a:rPr b="0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Λ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2</a:t>
            </a:r>
          </a:p>
        </p:txBody>
      </p:sp>
    </p:spTree>
  </p:cSld>
  <p:transition spd="med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Care sunt propoziţii logice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Λ~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•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→V~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(qVr)~q→~~p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•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Vq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Λ(rV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~qΛ~p~q→pVq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•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p→q)→s)~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((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.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Câte expresii diferite se obţin î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  <a:ea typeface="Arial"/>
              </a:rPr>
              <a:t>fiecare caz prin inserarea paranteze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Λq→r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→q)Λ~(rVp→q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Vq→~ pΛ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3. Formulaţi negaţia fiecărei propoziţ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atrulaterul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pătrat sau ro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uncţia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continuă şi monoton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uncţia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pozitivă pe (0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) şi se anulează în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= 0 sau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.  Este corect şirul de egalităţi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0000 ROL=(100 ROL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(0.01 RON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0001 RON=1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513480" y="0"/>
            <a:ext cx="263052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3</a:t>
            </a:r>
          </a:p>
        </p:txBody>
      </p:sp>
    </p:spTree>
  </p:cSld>
  <p:transition spd="med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Cinstitul şi mincinosul) Cinstitul spune mereu adevărul. Mincinosul minte tot timpul. Considerăm două persoane: A şi B. A spune: „B este cinstit”. B spune: „Unul din noi este cinstit, celălalt este mincinos.” Ce sunt A şi 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. Stoean - Introducere în Logica computaţională, Universitatea din Craiova, 2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 Cât este complexitatea expresiei: ((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q)Vr)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 Treceţi în logica propoziţional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I'm willing to help whenever you have a problem, except when I'm sleeping or very busy.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losind variabilele propoziţionale:</a:t>
            </a:r>
            <a:br>
              <a:rPr sz="2000"/>
            </a:b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willHelp = "I'm willing to help"    haveProblem = "you have a problem" </a:t>
            </a:r>
            <a:br>
              <a:rPr sz="2000"/>
            </a:b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asleep = "I'm sleeping" </a:t>
            </a: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33cc"/>
                </a:solidFill>
                <a:latin typeface="Arial"/>
              </a:rPr>
              <a:t>    busy = "I'm very busy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 Scrieţi o contradicţie care utilizează do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ş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presia logică ((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)→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)) es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 (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autolog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ontradicţ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ici tautologie, nici contradicţ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. Sunt următoarele perechi logic echival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rV~r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~(q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r)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~(~q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↔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~r)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ş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. Câţi conectori binari diferiţi exist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7.  Simplificaţi fragment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f ( x &gt; 0 || (x &lt;= 0 &amp;&amp; y &gt; 100)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. Ramsey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) Orice mulţime de 6 persoane include o mulţime de 3 în care fiecare pereche nu se cunoaşte, sau o mulţime de 3 în care fiecare pereche se cunoaş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4</a:t>
            </a:r>
          </a:p>
        </p:txBody>
      </p:sp>
    </p:spTree>
  </p:cSld>
  <p:transition spd="med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foaie sem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p de predare – pe catedra: 4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pensa: 0,5p la nota FI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institul spune mereu adevărul. Mincinosul minte tot timpul. Considerăm două persoane: A şi B. A spune: “Noi suntem a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ndoi cinst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i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B spune: “A este mincinos.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e sunt A şi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 probl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o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gic.stanford.edu/logica/php/babbage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on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ogic.stanford.edu/logica/php/index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tanford Univers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el (filosof grec, 384–322 î.e.n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logism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um putem obţ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cluzie corectă, pe baza cunoştinţelor, fără a ne preocupa de conţin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apoleon este om.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ate pisicile sunt mamif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ţi oamenii sunt muritori.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ate mamiferele sunt verte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Napoleon este muritor.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ate pisicile sunt verte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38760" y="0"/>
            <a:ext cx="250524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el (filosof grec, 384–322 î.e.n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logism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um putem obţ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oncluzie corectă, pe baza cunoştinţelor, fără a ne preocupa de conţin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poleon este om.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ate pisicile sunt mamif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ţi oamenii sunt muritor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ate mamiferele sunt verte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poleon este mur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</a:rPr>
              <a:t>Toate pisicile sunt verte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37320" y="0"/>
            <a:ext cx="250668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4648320"/>
            <a:ext cx="3581280" cy="1523880"/>
          </a:xfrm>
          <a:prstGeom prst="downArrowCallout">
            <a:avLst>
              <a:gd name="adj1" fmla="val 58758"/>
              <a:gd name="adj2" fmla="val 58753"/>
              <a:gd name="adj3" fmla="val 16667"/>
              <a:gd name="adj4" fmla="val 6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NTRODUCE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ogica </a:t>
            </a:r>
            <a:r>
              <a:rPr b="0" lang="ro-RO" sz="3200" spc="-1" strike="noStrike">
                <a:solidFill>
                  <a:srgbClr val="009999"/>
                </a:solidFill>
                <a:latin typeface="Arial"/>
              </a:rPr>
              <a:t>uman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ristotel (filosof grec, 384–322 î.e.n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silogis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: cum putem obţ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 concluzie corectă, pe baza cunoştinţelor, fără a ne preocupa de conţin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apoleon este om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Toate pisicile sunt mamif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oţi oamenii sunt muritori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Toate mamiferele sunt verte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apoleon este muritor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Toate pisicile sunt verteb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638760" y="0"/>
            <a:ext cx="2505240" cy="3048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4648320"/>
            <a:ext cx="3581280" cy="1523880"/>
          </a:xfrm>
          <a:prstGeom prst="downArrowCallout">
            <a:avLst>
              <a:gd name="adj1" fmla="val 58758"/>
              <a:gd name="adj2" fmla="val 58753"/>
              <a:gd name="adj3" fmla="val 16667"/>
              <a:gd name="adj4" fmla="val 6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648320"/>
            <a:ext cx="4648320" cy="1523880"/>
          </a:xfrm>
          <a:prstGeom prst="downArrowCallout">
            <a:avLst>
              <a:gd name="adj1" fmla="val 76265"/>
              <a:gd name="adj2" fmla="val 76258"/>
              <a:gd name="adj3" fmla="val 16667"/>
              <a:gd name="adj4" fmla="val 6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5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16:28:12Z</dcterms:created>
  <dc:creator>Cerasela</dc:creator>
  <dc:description/>
  <dc:language>en-US</dc:language>
  <cp:lastModifiedBy>cerasela</cp:lastModifiedBy>
  <dcterms:modified xsi:type="dcterms:W3CDTF">2015-10-03T05:13:23Z</dcterms:modified>
  <cp:revision>161</cp:revision>
  <dc:subject/>
  <dc:title>Propoziţii şi conectori.  Funcţii de adevăr. Tabele de adevăr.</dc:title>
</cp:coreProperties>
</file>