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52F-70D4-4244-A221-4DE34281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7BA-A115-4C88-B608-5A20578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C7D-E0C1-469A-9FAE-41303873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CD64-F76C-4AFF-A649-89BFB618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D7F-ED4E-46D3-9CAF-30BA27BA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361-E74C-463D-A04B-94C07E3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AA4-4CF4-4F5E-BF23-681F92C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185-30A8-4F05-907D-8512BDF6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0F0-2C79-4527-850B-D0E0FDA4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F7F-A3F1-4E04-A546-3CDFFAB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E05-981A-4BB4-B2F7-D4B22D7F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905-7163-4C57-B689-4DEA4D93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BEBB-0062-4517-ADA7-D1D7C07C27A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8288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ALTE LOGICI</a:t>
            </a:r>
            <a:br>
              <a:rPr sz="4000"/>
            </a:br>
            <a:br>
              <a:rPr sz="4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The truth of a theory is in your mind, not in your eyes.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(Albert Einstein,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79 – 1955)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= min(1,1-p+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c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re d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ane ex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 dif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ime de ¼ in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una din persoane e conside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tun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eal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 fi conside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 este conside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eva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totali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Incompletitudinea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unei informaţii se exprimă pe două scăr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000000"/>
                </a:solidFill>
                <a:latin typeface="Arial"/>
              </a:rPr>
              <a:t>scara incertitudinii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e referă la încrederea care i se acordă informaţiei (dacă sursa de informaţie, instrumentul de măsură sau expertul sunt complet siguri, demni de încredere, informaţia este </a:t>
            </a:r>
            <a:r>
              <a:rPr b="0" i="1" lang="ro-RO" sz="2600" spc="-1" strike="noStrike">
                <a:solidFill>
                  <a:srgbClr val="009999"/>
                </a:solidFill>
                <a:latin typeface="Arial"/>
              </a:rPr>
              <a:t>certă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600" spc="-1" strike="noStrike">
                <a:solidFill>
                  <a:srgbClr val="000000"/>
                </a:solidFill>
                <a:latin typeface="Arial"/>
              </a:rPr>
              <a:t>scara impreciziei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e referă la conţinutul informaţional (dacă mulţimea valorilor specificate în enunţul corespunzător are o valoare unică, informaţia este </a:t>
            </a:r>
            <a:r>
              <a:rPr b="0" i="1" lang="ro-RO" sz="2600" spc="-1" strike="noStrike">
                <a:solidFill>
                  <a:srgbClr val="009999"/>
                </a:solidFill>
                <a:latin typeface="Arial"/>
              </a:rPr>
              <a:t>precisă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a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entru o mulţime fuzzy finit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+…+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unde a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x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(dacă A este infinită, atunci se specifică funcţi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inclu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î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dac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α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-tăietur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mulţimii A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port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ui A es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Înălţim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lui A es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343400" y="4038480"/>
          <a:ext cx="2514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4038480"/>
                    <a:ext cx="2514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581280" y="5232240"/>
          <a:ext cx="2210040" cy="69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5232240"/>
                    <a:ext cx="2210040" cy="6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3733920" y="5715000"/>
          <a:ext cx="121896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715000"/>
                    <a:ext cx="121896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24280" y="4681440"/>
                <a:ext cx="26672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α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mp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m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ea fuzz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48320" y="1600200"/>
          <a:ext cx="4038480" cy="4660920"/>
        </p:xfrm>
        <a:graphic>
          <a:graphicData uri="http://schemas.openxmlformats.org/drawingml/2006/table">
            <a:tbl>
              <a:tblPr/>
              <a:tblGrid>
                <a:gridCol w="1676160"/>
                <a:gridCol w="2362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ţ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 de apartene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ţ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 este mulţime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zzy 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merelor natural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apropiate de 3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=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1+0.6/2+1/3+0.6/4+0.3/5+0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-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ietura lui A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mulţim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2,3,4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rtul lui A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mulţim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,2,3,4,5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ălţimea lui A es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81160" y="2743200"/>
          <a:ext cx="36658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1160" y="2743200"/>
                    <a:ext cx="36658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xemplu: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este m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imea numerelor real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apropiate de 3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-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ietura l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1.8, 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rtul lui B este (1,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ălţimea lu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s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   A; A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număr fuzzy triunghi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61960" y="2362320"/>
                <a:ext cx="4289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t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ca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t</m:t>
                              </m:r>
                              <m:r>
                                <m:t xml:space="preserve">≤</m:t>
                              </m:r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ltfel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97480" y="3581280"/>
          <a:ext cx="3735360" cy="25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7480" y="3581280"/>
                    <a:ext cx="3735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62120" y="5562720"/>
                <a:ext cx="3744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⊄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676520" y="5562720"/>
                <a:ext cx="37440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⊄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din pagina anterioară este numărul fuzzy triunghiular cu centrul 3, lăţimea la stânga 2 şi lăţimea la dreapta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1752480"/>
          <a:ext cx="6145200" cy="29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145200" cy="29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ţiile pe mulţimile fuzzy le extind pe cele aplicate mulţimi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43400" y="1433520"/>
          <a:ext cx="433872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433520"/>
                    <a:ext cx="43387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343400" y="3733920"/>
          <a:ext cx="4343400" cy="23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733920"/>
                    <a:ext cx="434340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343400" y="5943600"/>
          <a:ext cx="4610160" cy="57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943600"/>
                    <a:ext cx="4610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343400" y="1371600"/>
            <a:ext cx="7621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657600"/>
            <a:ext cx="7621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5943600"/>
            <a:ext cx="7621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52480" y="2525760"/>
            <a:ext cx="5257800" cy="4255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respondenţa între teoria mulţimilor şi logică, în cazul clasic şi în cazul fuz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plicaţi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istem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Inginerie: control automat (calculator de bord, termostat, maşini industriale, roboţi, pilot autom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bliografie multimi fuz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, Florin Leo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Inteligenţa artificială, C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Mulţimi fuz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i multi-val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 trival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 (Lukasiewic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0 =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/2 = po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 =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Maybe I’ll wear a tie tomorrow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rea mai multor posibili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ţi apropie logica de gândirea uman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86040" cy="336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comparativ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ristot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că A mai bun decât C în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 măsură mai mare decât B este mai bun decât C, atunci dintre A şi B este preferat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B)→(C→A))→(B→A) nu este ade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rată în logica propoziţional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Se introdu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oril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f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…, -3, -2, -1}; Valorile ade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{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0, 1, 2,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perator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logica comparativă, formula de mai sus e taut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5770440"/>
            <a:ext cx="7925040" cy="63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constructiv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 clasică: matematica este o colecţie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o demonstraţie de existenţă nu trebuie însoţită de o construcţie.(“există a şi b astfel încât…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gica constructiv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tematica este o colecţie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o demonstraţie de existenţă fără o construcţie nu este acceptată.(“construim a şi b astfel încât….”) Această logică se mai numeşte şi intuitivă, datorită corespondenţei dintre demonstraţie şi algorit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logica constructiv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deduc mai puţine teoreme decât în logica clasic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cipiul terţului exclus nu funcţioneaz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obiect matematic este f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s da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u am g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 o meto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 construc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 a l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constructiv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infinit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rmite construcţia formulelor infinite, care înlocuiesc cuantificato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empl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loc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bazează pe conceptul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număr cardin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care măsoară mulţimile. Cardinalele finite sunt num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lasice, iar cardinalele infinite ordonează mulţimile inf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209680" y="2963880"/>
                <a:ext cx="40388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⋯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⋯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tempor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 o axă a timpului, formulele îşi pot schimba valorile de adevăr. Se poate specifica dacă va exista un moment când o formulă va fi adevărată, sau că o formulă va fi întotdeauna adevărată, începând de la un anumit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utilizează în modelarea 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ma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B-ul semantic este un WEB cu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are apli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le permit asocierea, selectarea, colectare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naliza obiectel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fel spus, fiecare obiect trebuie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i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ribute asocia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trebuie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-o rel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de aparte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un grup sau de asociere cu alte obiecte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are este înălţimea şi suportul numerelor fuzzy triunghiul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ând numărul fuzzy triunghiular A este inclus în numărul fuzzy triunghiular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finiţi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număr fuzzy trapezoida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Răspundeţi la întrebările analoge Ex 1 şi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rătaţi c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→B)→(C→A))→(B→A)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e tautologie în logica comparativ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i multi-val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57600" cy="334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57800" y="5334120"/>
            <a:ext cx="3276720" cy="1303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 trival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 (Lukasiewic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0 =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/2 = po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 =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Maybe I’ll wear a tie tomorrow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rea mai multor posibili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ţi apropie logica de gândirea uman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i multi-valo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 trival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 (Lukasiewic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u mai exist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cipiul terţului excl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incipiul 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tradicţie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=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pot considera mai mult de 3 varia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gica tetravalen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tc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335040" cy="3047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286000" y="3276720"/>
            <a:ext cx="312408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209680" y="3886200"/>
            <a:ext cx="32767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otfi A. Zadeh, (profesor la Universitatea din Berkeley –California) a propus în 1965 teoria mulţimilor fuzzy şi logica asociată lor – logica fuzz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mulţime fuzzy este o mulţime ai cărei membri au grade de apartenenţă între 0 şi 1, spre deosebire de mulţimile obişnuite, în care elementele au grade de apartenenţă 0 sau 1 (există o delimitare clară între A şi complementara s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5111640"/>
            <a:ext cx="3353040" cy="174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81480" y="5181480"/>
            <a:ext cx="2895840" cy="131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cazul mulţimilor fuzzy, nu există o delimitare clară a separaţiei între A şi “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”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uncţia care arată gradul de apartenenţă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ept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domeni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val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[0, 1]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e introduc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ncompletitudin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informaţi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4057560"/>
            <a:ext cx="5286600" cy="2800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248520" y="5791320"/>
            <a:ext cx="1733400" cy="419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ul propus permite extinderea valorii de ad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a unei propo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la toate numerele reale din intervalul [0,1]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n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din acest interval este interpretat drept posibilitatea ca propoz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 respect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e adevar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u f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ce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orie a dus la apar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iei posibil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 teh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a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cond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de inexacti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zate pe logica fuzzy, sistemele expert fuzzy oferă o metodă flexibilă pentru tratarea incertitudin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ponia este ţara cu cele mai multe sisteme expert fuzzy implementate, mai ales în domeniile urmăririi producţiei şi al vânzări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a cu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lasică formează baza pentru sistemele expert convenţional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ituie temelia sistemelor exp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zz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irea fuzz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ire impre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 Fuzz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direa prec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pre o d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ex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 fuz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3T05:15:04Z</dcterms:modified>
  <cp:revision>451</cp:revision>
  <dc:subject/>
  <dc:title>LOGICA PROPOZIŢIONALĂ  Propoziţii şi conectori. Funcţii de  adevăr. Tabele de adevăr.  Forme propoziţionale.</dc:title>
</cp:coreProperties>
</file>