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FA98-6F29-4252-BF9D-EAEC21AB1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C0AA-D59E-4DE4-A26C-FDC7859D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2625-67AD-4F41-9DFE-8D1369520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AF70-8426-4597-951A-0655EB3C8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07C5-9232-4653-B8AC-DA4D925F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196C-5A1F-4298-BD6F-928BC1BE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18CD-838C-4CAB-AA38-EAA81DA8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7806-F761-4198-84CF-BD2BBC9F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F1EF-8DCC-4C88-B99B-BC923635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EB75-B87C-47B0-B323-245001C5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BA4C-1E5C-41D3-A110-A73DFFE7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8207-30C3-4AD3-AB49-EE4070A7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4E91-3C0E-4CFC-A83D-1B759E453589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8381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LOGICA PREDICATIVĂ</a:t>
            </a:r>
            <a:br>
              <a:rPr sz="4000"/>
            </a:b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a normal</a:t>
            </a: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ă prenex.</a:t>
            </a:r>
            <a:br>
              <a:rPr sz="4000"/>
            </a:b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Unificatori.</a:t>
            </a: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OGICA COMPUTA</a:t>
            </a:r>
            <a:r>
              <a:rPr b="0" lang="ro-RO" sz="3200" spc="-1" strike="noStrike">
                <a:solidFill>
                  <a:srgbClr val="000099"/>
                </a:solidFill>
                <a:latin typeface="Arial"/>
              </a:rPr>
              <a:t>Ţ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ONAL</a:t>
            </a:r>
            <a:r>
              <a:rPr b="0" lang="ro-RO" sz="3200" spc="-1" strike="noStrike">
                <a:solidFill>
                  <a:srgbClr val="000099"/>
                </a:solidFill>
                <a:latin typeface="Arial"/>
              </a:rPr>
              <a:t>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INFORMATICĂ an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urs 10 si Curs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 normal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ă pren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0000"/>
                </a:solidFill>
                <a:latin typeface="Arial"/>
              </a:rPr>
              <a:t>INSEAD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9999"/>
                </a:solidFill>
                <a:latin typeface="Arial"/>
              </a:rPr>
              <a:t>paşii pentru transformare în formă normală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ro-RO" sz="2800" spc="-1" strike="noStrike">
                <a:solidFill>
                  <a:srgbClr val="009999"/>
                </a:solidFill>
                <a:latin typeface="Arial"/>
              </a:rPr>
              <a:t>ren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cations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on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iz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entials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s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junction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s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Renaming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 normal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ă prene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 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cations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nlocuirea implicaţiilor c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 V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on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ţiile sunt distribuite peste operatorii logici, până când se aplică literalil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447920" y="2209680"/>
                <a:ext cx="378432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→</m:t>
                        </m:r>
                        <m:r>
                          <m:t xml:space="preserve">B</m:t>
                        </m:r>
                        <m:r>
                          <m:t xml:space="preserve">≡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A</m:t>
                        </m:r>
                        <m:r>
                          <m:t xml:space="preserve">∨</m:t>
                        </m:r>
                        <m:r>
                          <m:t xml:space="preserve">B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↔</m:t>
                        </m:r>
                        <m:r>
                          <m:t xml:space="preserve">B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523880" y="4803840"/>
                <a:ext cx="2562480" cy="21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A</m:t>
                        </m:r>
                        <m:r>
                          <m:t xml:space="preserve">≡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∧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A</m:t>
                        </m:r>
                        <m:r>
                          <m:t xml:space="preserve">∨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∨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A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A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A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 normal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ă prenex:</a:t>
            </a:r>
            <a:r>
              <a:rPr b="0" lang="ro-RO" sz="4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44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iz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e redenumesc variabilele la nevoie, astfel că fiecare este cuantificată o singură dat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entials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liminarea cuantificatorilor existenţiali. Variabilele din domeniul unui      se înlocuiesc c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1. </a:t>
            </a:r>
            <a:r>
              <a:rPr b="0" lang="ro-RO" sz="2000" spc="-1" strike="noStrike">
                <a:solidFill>
                  <a:srgbClr val="ff0000"/>
                </a:solidFill>
                <a:latin typeface="Arial"/>
              </a:rPr>
              <a:t>noi constante (Skolem)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dacă     nu este în domeniul unu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2. </a:t>
            </a:r>
            <a:r>
              <a:rPr b="0" lang="ro-RO" sz="2000" spc="-1" strike="noStrike">
                <a:solidFill>
                  <a:srgbClr val="ff0000"/>
                </a:solidFill>
                <a:latin typeface="Arial"/>
              </a:rPr>
              <a:t>noi funcţii (Skolem)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dacă     este în domeniul un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397160" y="2535120"/>
                <a:ext cx="619596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(</m:t>
                    </m:r>
                    <m:r>
                      <m:t xml:space="preserve">∃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(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(</m:t>
                    </m:r>
                    <m:r>
                      <m:t xml:space="preserve">∃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825640" y="4114800"/>
                <a:ext cx="374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648320" y="4495680"/>
                <a:ext cx="374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7848720" y="449568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025640" y="4862520"/>
                <a:ext cx="23270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∃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267080" y="5181480"/>
                <a:ext cx="374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86600" y="518148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914400" y="5715000"/>
                <a:ext cx="80452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(</m:t>
                    </m:r>
                    <m:r>
                      <m:t xml:space="preserve">∃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(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 normal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ă prenex:</a:t>
            </a:r>
            <a:r>
              <a:rPr b="0" lang="ro-RO" sz="4400" spc="-1" strike="noStrike">
                <a:solidFill>
                  <a:srgbClr val="ff0000"/>
                </a:solidFill>
                <a:latin typeface="Arial"/>
              </a:rPr>
              <a:t>A 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s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Renunţarea la cuantificatorii universa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junction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Obţinerea fnc prin aplic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295280" y="2516040"/>
                <a:ext cx="754380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312920" y="4195800"/>
                <a:ext cx="4859280" cy="21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∨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∧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∨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∨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∧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t xml:space="preserve">C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∨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∨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∨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t xml:space="preserve">C</m:t>
                        </m:r>
                        <m:r>
                          <m:t xml:space="preserve">≡</m:t>
                        </m:r>
                        <m:r>
                          <m:t xml:space="preserve">A</m:t>
                        </m:r>
                        <m:r>
                          <m:t xml:space="preserve">∨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∨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∧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C</m:t>
                        </m:r>
                        <m:r>
                          <m:t xml:space="preserve">≡</m:t>
                        </m:r>
                        <m:r>
                          <m:t xml:space="preserve">A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∧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 normal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ă prenex:</a:t>
            </a:r>
            <a:r>
              <a:rPr b="0" lang="ro-RO" sz="4400" spc="-1" strike="noStrike">
                <a:solidFill>
                  <a:srgbClr val="ff0000"/>
                </a:solidFill>
                <a:latin typeface="Arial"/>
              </a:rPr>
              <a:t>O 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ors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liminarea operatorilor şi construirea clauzel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Renaming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Nu apare aceeaşi variabilă în 2 clau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996840" y="2354400"/>
                <a:ext cx="464184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∧</m:t>
                        </m:r>
                        <m:r>
                          <m:t xml:space="preserve">⋯</m:t>
                        </m:r>
                        <m:r>
                          <m:t xml:space="preserve">∧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↦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∨</m:t>
                        </m:r>
                        <m:r>
                          <m:t xml:space="preserve">⋯</m:t>
                        </m:r>
                        <m:r>
                          <m:t xml:space="preserve">∨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↦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⋯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676520" y="4952880"/>
                <a:ext cx="1600200" cy="13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⋮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 normal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ă pren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u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   Eliminare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  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 Translatarea neg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lor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 predic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762120" y="2189160"/>
                <a:ext cx="78483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∃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∨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x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85800" y="3168720"/>
                <a:ext cx="79246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∨</m:t>
                    </m:r>
                    <m:r>
                      <m:t xml:space="preserve">∃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∨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∀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31880" y="4267080"/>
                <a:ext cx="80312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∨</m:t>
                    </m:r>
                    <m:r>
                      <m:t xml:space="preserve">∃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∃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  Redenumirea variabilelor, cu nume unic pentru orice cuantif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  Eliminarea cuantificatorilor exist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tru     situ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teriorul unui cuantificator      , se creea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 fun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 Skolem y = g(x) (valoarea lui y depin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general de cea lu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x). Altfel, se alege o n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ko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990720" y="2627280"/>
                <a:ext cx="723888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∨</m:t>
                    </m:r>
                    <m:r>
                      <m:t xml:space="preserve">∃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∃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066680" y="5186520"/>
                <a:ext cx="77724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∨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523880" y="3657600"/>
                <a:ext cx="3812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705720" y="3657600"/>
                <a:ext cx="38088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 normal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ă pren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 normal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ă pren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   Cuantificatorii “oricare” se elim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   Disjun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interi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930240" y="2389320"/>
                <a:ext cx="775656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∨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04920" y="3886200"/>
                <a:ext cx="86868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∨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 normal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ă pren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u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enumi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676520" y="2209680"/>
                <a:ext cx="313668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752480" y="4738680"/>
                <a:ext cx="3060720" cy="18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,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 normal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ă pren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u: Există un ogar care este mai rapid decât fiecare iep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752480" y="2514600"/>
                <a:ext cx="425448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reg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reg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reg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reg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eg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eg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R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eg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reg</m:t>
                            </m:r>
                            <m:r>
                              <m:t xml:space="preserve">,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ţia limbajului formal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, limbajul</a:t>
            </a:r>
            <a:r>
              <a:rPr b="0" lang="ro-RO" sz="3600" spc="-1" strike="noStrike">
                <a:solidFill>
                  <a:srgbClr val="ff0000"/>
                </a:solidFill>
                <a:latin typeface="Arial"/>
              </a:rPr>
              <a:t> formal al calculului predicat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onţine următoarele seturi d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simbolur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 ( 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057400" y="35053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219320" y="3890880"/>
                <a:ext cx="4038480" cy="20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</m:e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…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…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47" name=""/>
          <p:cNvGraphicFramePr/>
          <p:nvPr/>
        </p:nvGraphicFramePr>
        <p:xfrm>
          <a:off x="5334120" y="3505320"/>
          <a:ext cx="2819160" cy="239220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24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construcţi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ant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i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at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ţii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 normal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ă pren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u: Nu există un ogar care este mai rapid decât fiecare iep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62120" y="2133720"/>
                <a:ext cx="4952880" cy="472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∨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O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R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,</m:t>
                            </m:r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543800" y="4419720"/>
            <a:ext cx="1407960" cy="1712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029200" y="59436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99"/>
                </a:solidFill>
                <a:latin typeface="Arial"/>
              </a:rPr>
              <a:t>Thoralf Albert Skol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(1887-1963, matematician norvegi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ucerea formulelor la FNP este folos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demostrarea autom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teoreme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oda demonst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i automate a teoremelor furnizea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 modalitate 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materializab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în programe de calculator pentru efectuarea 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amentel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În acest sens, 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 baza pro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i logice (limbajul PROLOG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 normal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ă pren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 în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demonstrarea automat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ă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 a teoremel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Concluzia trebuie reprezent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 o formula A pentru care trebuie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rif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da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e val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Construim B = ~A, pentru care trebuie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e contrad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Formula B trebuie ad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forma clauz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Construim rezolvente din S pâna la o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rea clauzei vide. Da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jungem la clauza v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este tautolog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 normal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ă pren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ţ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substituţi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θ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ste o mulţime finită de forma {v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/t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,…, v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/t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} unde v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unt variabile distincte şi t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unt termeni, fiecare diferit de variabila de substituţie corespunzătoare.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Domeniul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lui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este {v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,…, v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},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codomeniul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lui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este {t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,…, t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}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ie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θ=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{v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/t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,…, v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/t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} o substituţie şi </a:t>
            </a:r>
            <a:r>
              <a:rPr b="0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o fbf. Atunci </a:t>
            </a:r>
            <a:r>
              <a:rPr b="0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instanţa lui </a:t>
            </a:r>
            <a:r>
              <a:rPr b="0" lang="ro-RO" sz="3200" spc="-1" strike="noStrike">
                <a:solidFill>
                  <a:srgbClr val="ff0000"/>
                </a:solidFill>
                <a:latin typeface="Monotype Corsiva"/>
              </a:rPr>
              <a:t>A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 prin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θ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este obţinută prin înlocuirea simultană a tuturor apariţiilor variabilei v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prin t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Exemplu: 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  <a:ea typeface="Arial"/>
              </a:rPr>
              <a:t>θ=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{x/f(x,y),y/h(a),z/g(c,h(x))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J(k(x),y) furnizează prin 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  <a:ea typeface="Arial"/>
              </a:rPr>
              <a:t>θ instanţa 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</a:rPr>
              <a:t>J(k(f(x,y)),h(a)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ţ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substituţi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θ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ste o mulţime finită de forma {v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/t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,…, v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/t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} unde v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unt variabile distincte şi t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sunt termeni, fiecare diferit de variabila de substituţie corespunzătoare.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Domeniul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lui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este {v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,…, v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},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codomeniul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lui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este {t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,…, t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Fie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θ=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{v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/t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,…, v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/t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} o substituţie şi </a:t>
            </a:r>
            <a:r>
              <a:rPr b="0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o fbf. Atunci </a:t>
            </a:r>
            <a:r>
              <a:rPr b="0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instanţa lui </a:t>
            </a:r>
            <a:r>
              <a:rPr b="0" lang="ro-RO" sz="3200" spc="-1" strike="noStrike">
                <a:solidFill>
                  <a:srgbClr val="ff0000"/>
                </a:solidFill>
                <a:latin typeface="Monotype Corsiva"/>
              </a:rPr>
              <a:t>A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 prin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θ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este obţinută prin înlocuirea simultană a tuturor apariţiilor variabilei v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prin t</a:t>
            </a:r>
            <a:r>
              <a:rPr b="0" lang="ro-RO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Exemplu: 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  <a:ea typeface="Arial"/>
              </a:rPr>
              <a:t>θ=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{x/f(x,y),y/h(a),z/g(c,h(x))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J(k(x),y) furnizează prin 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  <a:ea typeface="Arial"/>
              </a:rPr>
              <a:t>θ instanţa 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J(k(f(x,y)),h(a)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ituţ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2895480"/>
            <a:ext cx="1447920" cy="228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905120"/>
            <a:ext cx="1143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1593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28600" y="3429000"/>
            <a:ext cx="8666280" cy="5904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fic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O substituţie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est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unificator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pentru fbf </a:t>
            </a:r>
            <a:r>
              <a:rPr b="0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0" lang="ro-RO" sz="32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, dac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θ=</a:t>
            </a:r>
            <a:r>
              <a:rPr b="0" lang="ro-RO" sz="32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θ. Dacă două fbf au un unificator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unci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ele sunt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unificabil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. Există de obicei mai mulţi unificatori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două fb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dddddd"/>
                </a:solidFill>
                <a:latin typeface="Arial"/>
                <a:ea typeface="Arial"/>
              </a:rPr>
              <a:t>Exempl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dddddd"/>
                </a:solidFill>
                <a:latin typeface="Arial"/>
                <a:ea typeface="Arial"/>
              </a:rPr>
              <a:t>P(x,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y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  <a:ea typeface="Arial"/>
              </a:rPr>
              <a:t>) şi P(a,v) au unificatorul {x/a,y/b,v/b}, deoarece instanţele obţinute sunt P(a,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dddddd"/>
                </a:solidFill>
                <a:latin typeface="Arial"/>
                <a:ea typeface="Arial"/>
              </a:rPr>
              <a:t>{x/a,y/v} este unificator, de asemenea. Această substituţie este mai general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fic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O substituţie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est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unificator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pentru fbf </a:t>
            </a:r>
            <a:r>
              <a:rPr b="0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0" lang="ro-RO" sz="32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, dac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θ=</a:t>
            </a:r>
            <a:r>
              <a:rPr b="0" lang="ro-RO" sz="32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θ. Dacă două fbf au un unificator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unci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ele sunt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unificabil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. Există de obicei mai mulţi unificatori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două fb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99"/>
                </a:solidFill>
                <a:latin typeface="Arial"/>
                <a:ea typeface="Arial"/>
              </a:rPr>
              <a:t>Exempl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99"/>
                </a:solidFill>
                <a:latin typeface="Arial"/>
                <a:ea typeface="Arial"/>
              </a:rPr>
              <a:t>P(x,z) şi P(a,v) au unificatorul {x/a,y/b,v/b}, deoarece instanţele obţinute sunt P(a,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99"/>
                </a:solidFill>
                <a:latin typeface="Arial"/>
                <a:ea typeface="Arial"/>
              </a:rPr>
              <a:t>{x/a,y/v} este unificator, de asemenea. Această substituţie este </a:t>
            </a:r>
            <a:r>
              <a:rPr b="0" lang="ro-RO" sz="2400" spc="-1" strike="noStrike">
                <a:solidFill>
                  <a:srgbClr val="009999"/>
                </a:solidFill>
                <a:latin typeface="Arial"/>
                <a:ea typeface="Arial"/>
              </a:rPr>
              <a:t>mai generală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fic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su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bstituţi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st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mai general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decât substituţia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dacă există substituţia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astfel ca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Exempl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{x/a,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  <a:ea typeface="Arial"/>
              </a:rPr>
              <a:t>y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/v} este mai general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 dec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  <a:ea typeface="Arial"/>
              </a:rPr>
              <a:t>â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t {x/a,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  <a:ea typeface="Arial"/>
              </a:rPr>
              <a:t>y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/f(c),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  <a:ea typeface="Arial"/>
              </a:rPr>
              <a:t>v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/f(c)} deoarece {x/a,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  <a:ea typeface="Arial"/>
              </a:rPr>
              <a:t>y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/v} {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  <a:ea typeface="Arial"/>
              </a:rPr>
              <a:t>v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/f(c)} = {x/a,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  <a:ea typeface="Arial"/>
              </a:rPr>
              <a:t>y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/f(c),</a:t>
            </a:r>
            <a:r>
              <a:rPr b="0" lang="ro-RO" sz="2400" spc="-1" strike="noStrike">
                <a:solidFill>
                  <a:srgbClr val="dddddd"/>
                </a:solidFill>
                <a:latin typeface="Arial"/>
                <a:ea typeface="Arial"/>
              </a:rPr>
              <a:t>v</a:t>
            </a:r>
            <a:r>
              <a:rPr b="0" lang="en-US" sz="2400" spc="-1" strike="noStrike">
                <a:solidFill>
                  <a:srgbClr val="dddddd"/>
                </a:solidFill>
                <a:latin typeface="Arial"/>
                <a:ea typeface="Arial"/>
              </a:rPr>
              <a:t>/f(c)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Unificatorul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cel mai general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mgu)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a două fbf este unificatorul care este mai general decât orice alt unific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fic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su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bstituţi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st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mai generală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decât substituţia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dacă există substituţia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astfel ca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Exempl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{x/a,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  <a:ea typeface="Arial"/>
              </a:rPr>
              <a:t>y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/v} este mai general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  <a:ea typeface="Arial"/>
              </a:rPr>
              <a:t>ă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dec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  <a:ea typeface="Arial"/>
              </a:rPr>
              <a:t>â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t {x/a,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  <a:ea typeface="Arial"/>
              </a:rPr>
              <a:t>y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/f(c),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  <a:ea typeface="Arial"/>
              </a:rPr>
              <a:t>v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/f(c)} deoarece {x/a,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  <a:ea typeface="Arial"/>
              </a:rPr>
              <a:t>y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/v} {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  <a:ea typeface="Arial"/>
              </a:rPr>
              <a:t>v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/f(c)} = {x/a,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  <a:ea typeface="Arial"/>
              </a:rPr>
              <a:t>y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/f(c),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  <a:ea typeface="Arial"/>
              </a:rPr>
              <a:t>v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/f(c)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Unificatorul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  <a:ea typeface="Arial"/>
              </a:rPr>
              <a:t>cel mai general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mgu)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a două fbf este unificatorul care este mai general decât orice alt unific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ul formal K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tru a realiza deducţii definim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stemul formal K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 baza unui limbaj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 ordinul I, la care adăugăm 6 axiome şi 2 reguli de deducţ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0" y="1222200"/>
          <a:ext cx="9144000" cy="44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22200"/>
                    <a:ext cx="9144000" cy="44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304920" y="5943600"/>
            <a:ext cx="8686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ogică şi teoria mulţimilor, C.Volf, I. Vrabie, Fac. Matematic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Univ. Al. I. Cuza, Iaşi, 2005 (Note de cu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a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1628640"/>
          <a:ext cx="9144000" cy="379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8640"/>
                    <a:ext cx="9144000" cy="37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ă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6320" y="2209680"/>
            <a:ext cx="9067680" cy="1791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Sistemul formal K</a:t>
            </a:r>
            <a:r>
              <a:rPr b="0" i="1" lang="ro-RO" sz="4400" spc="-1" strike="noStrike" baseline="-25000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Axi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K1)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K2) ((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K3)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))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K4)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(      )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ă x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nu e liber în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K5) ((      )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) dacă t termen liber de x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în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K6) (   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    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) dacă x</a:t>
            </a:r>
            <a:r>
              <a:rPr b="0" lang="ro-RO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nu e liber în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447920" y="3200400"/>
                <a:ext cx="4507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447920" y="3733920"/>
                <a:ext cx="4507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295280" y="4249800"/>
                <a:ext cx="4510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962520" y="4267080"/>
                <a:ext cx="4572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Sistemul formal K</a:t>
            </a:r>
            <a:r>
              <a:rPr b="0" i="1" lang="ro-RO" sz="4400" spc="-1" strike="noStrike" baseline="-25000">
                <a:solidFill>
                  <a:srgbClr val="000000"/>
                </a:solidFill>
                <a:latin typeface="Monotype Corsiva"/>
              </a:rPr>
              <a:t>L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Reguli de deduc</a:t>
            </a: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1. regula d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deducţi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Modus Ponen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(MP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este o consecinţă directă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in 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  <a:ea typeface="Arial"/>
              </a:rPr>
              <a:t>B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regula de </a:t>
            </a: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deducţi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Generalizarea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(G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A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ste o consecinţă directă din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Obs. Toate deducţiile în L sunt valabile în </a:t>
            </a:r>
            <a:r>
              <a:rPr b="0" lang="ro-RO" sz="2800" spc="-1" strike="noStrike">
                <a:solidFill>
                  <a:srgbClr val="000099"/>
                </a:solidFill>
                <a:latin typeface="Arial"/>
              </a:rPr>
              <a:t>K</a:t>
            </a:r>
            <a:r>
              <a:rPr b="0" i="1" lang="ro-RO" sz="2800" spc="-1" strike="noStrike" baseline="-25000">
                <a:solidFill>
                  <a:srgbClr val="000099"/>
                </a:solidFill>
                <a:latin typeface="Monotype Corsiva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295280" y="4194000"/>
                <a:ext cx="5335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ţia limbajului formal </a:t>
            </a: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est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alid</a:t>
            </a:r>
            <a:r>
              <a:rPr b="0" lang="ro-RO" sz="3200" spc="-1" strike="noStrike">
                <a:solidFill>
                  <a:srgbClr val="ff0000"/>
                </a:solidFill>
                <a:latin typeface="Arial"/>
              </a:rPr>
              <a:t>ă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dacă este adevărată în orice interpret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Not.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╞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este </a:t>
            </a:r>
            <a:r>
              <a:rPr b="0" lang="ro-RO" sz="3200" spc="-1" strike="noStrike">
                <a:solidFill>
                  <a:srgbClr val="ff0000"/>
                </a:solidFill>
                <a:latin typeface="Arial"/>
              </a:rPr>
              <a:t>contradicţi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dacă este falsă în orice interpret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Noţiunile sunt analoge </a:t>
            </a:r>
            <a:r>
              <a:rPr b="0" lang="ro-RO" sz="2400" spc="-1" strike="noStrike">
                <a:solidFill>
                  <a:srgbClr val="009999"/>
                </a:solidFill>
                <a:latin typeface="Arial"/>
              </a:rPr>
              <a:t>tautologie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0" lang="ro-RO" sz="2400" spc="-1" strike="noStrike">
                <a:solidFill>
                  <a:srgbClr val="009999"/>
                </a:solidFill>
                <a:latin typeface="Arial"/>
              </a:rPr>
              <a:t>contradicţie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din 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 deosebire de L,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 un număr finit de interpretări a unei fbf, în </a:t>
            </a: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există un număr infinit de interpretări pentru o fb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A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(fbf echivalen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209680" y="1447920"/>
                <a:ext cx="3856320" cy="541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ca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u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t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b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tunci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∧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∧</m:t>
                        </m:r>
                        <m:r>
                          <m:t xml:space="preserve">G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∨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∨</m:t>
                        </m:r>
                        <m:r>
                          <m:t xml:space="preserve">G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∧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∧</m:t>
                        </m:r>
                        <m:r>
                          <m:t xml:space="preserve">G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∨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∨</m:t>
                        </m:r>
                        <m:r>
                          <m:t xml:space="preserve">G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∧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∨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∨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ca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u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t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b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tunci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≡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≡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U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(fbf n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echivalen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Explicaţ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 interpretare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N, 0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, succ, +, *)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: x este p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(x): x este imp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917720" y="1371600"/>
                <a:ext cx="547380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∨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∨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∧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≡</m:t>
                        </m:r>
                        <m:r>
                          <m:t xml:space="preserve">(</m:t>
                        </m:r>
                        <m:r>
                          <m:t xml:space="preserve">∃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∧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521240" y="3333600"/>
                <a:ext cx="1015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841400" y="4986360"/>
                <a:ext cx="455940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∨</m:t>
                        </m:r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te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∀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∨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te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 normal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ă pren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O fbf este </a:t>
            </a:r>
            <a:r>
              <a:rPr b="0" lang="ro-RO" sz="2400" spc="-1" strike="noStrike">
                <a:solidFill>
                  <a:srgbClr val="ff0000"/>
                </a:solidFill>
                <a:latin typeface="Arial"/>
              </a:rPr>
              <a:t>în forma normală prenex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dacă este de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unde </a:t>
            </a: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nu are cuantificatori, fiecare Q este     sau       şi         . Şirul                                 este </a:t>
            </a:r>
            <a:r>
              <a:rPr b="0" lang="ro-RO" sz="2400" spc="-1" strike="noStrike">
                <a:solidFill>
                  <a:srgbClr val="ff0000"/>
                </a:solidFill>
                <a:latin typeface="Arial"/>
              </a:rPr>
              <a:t>prefixu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iar </a:t>
            </a: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este </a:t>
            </a:r>
            <a:r>
              <a:rPr b="0" lang="ro-RO" sz="2400" spc="-1" strike="noStrike">
                <a:solidFill>
                  <a:srgbClr val="ff0000"/>
                </a:solidFill>
                <a:latin typeface="Arial"/>
              </a:rPr>
              <a:t>matrice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ucerea la forma nor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renex 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resupune scoaterea în f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ţ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 formulei a tuturor cuantificatori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0000"/>
                </a:solidFill>
                <a:latin typeface="Arial"/>
              </a:rPr>
              <a:t>T1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. Pentru orice fbf </a:t>
            </a: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există o fbf </a:t>
            </a: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în forma normală prenex </a:t>
            </a:r>
            <a:r>
              <a:rPr b="0" lang="ro-RO" sz="2400" spc="-1" strike="noStrike">
                <a:solidFill>
                  <a:srgbClr val="000099"/>
                </a:solidFill>
                <a:latin typeface="Arial"/>
              </a:rPr>
              <a:t>slab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echivalentă cu </a:t>
            </a: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A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A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este contradicţie dacă şi numai dacă </a:t>
            </a: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B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este contradicţi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0000"/>
                </a:solidFill>
                <a:latin typeface="Arial"/>
              </a:rPr>
              <a:t>Forma normală prenex permite metoda clauzală de deducţie, analogă logicii propoziţion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828800" y="1447920"/>
                <a:ext cx="330840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019920" y="1828800"/>
                <a:ext cx="4442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7010280" y="1828800"/>
                <a:ext cx="374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7848720" y="1905120"/>
                <a:ext cx="7617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219320" y="2133720"/>
                <a:ext cx="278604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19:06:24Z</dcterms:created>
  <dc:creator>Adela</dc:creator>
  <dc:description/>
  <dc:language>en-US</dc:language>
  <cp:lastModifiedBy>cerasela</cp:lastModifiedBy>
  <dcterms:modified xsi:type="dcterms:W3CDTF">2015-10-08T20:25:28Z</dcterms:modified>
  <cp:revision>341</cp:revision>
  <dc:subject/>
  <dc:title>LOGICA PROPOZIŢIONALĂ  Propoziţii şi conectori. Funcţii de  adevăr. Tabele de adevăr.  Forme propoziţionale.</dc:title>
</cp:coreProperties>
</file>